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CF74-FD27-4C76-BEB8-94EBEC61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833-A578-4C5C-9E55-92F7D88A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624-EA3A-4B70-A905-8153741D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D4E-E810-4ED9-AACF-3D6E0400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E0B-FED2-448B-8857-1F1B788B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433-813C-4B1E-82AE-795EB952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0C5-C174-43F0-B244-F30C9A97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870-C071-405C-BFFF-03D7ADFB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AA5-5804-4361-BABA-16997331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5E1-E832-44DC-B556-3354BC72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093-2C7F-4C71-8025-0B27F20C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4C3-3474-42F4-9C7C-F103BF4E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E107-78CF-4974-81B9-4A466B3DC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5840" y="0"/>
            <a:ext cx="6232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77440"/>
            <a:ext cx="77724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0000cc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836640"/>
            <a:ext cx="82803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Tourismus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in Bautzen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uszüge aus „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Bautzener Höhepunkte 2007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25. Janua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Vogelhoch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6. - 9. Apri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Ostern in Baut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30. Apri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Hexenbre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28. Juni - 5. Augus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12. Bautzener Theaterso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2000" y="2852640"/>
            <a:ext cx="1523880" cy="1000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59280" y="400536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804000" y="4797360"/>
            <a:ext cx="15238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uszüge aus „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Bautzener Höhepunkte 2007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24. - 26. Augus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15. Wasserkunstf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15. September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14. Internationaler Bautzener Stadtlau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14. - 16. September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14. Bautzener Unternehmer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30. November - 23. Dezember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Bautzener Weihnachtsma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40360" y="1484280"/>
            <a:ext cx="152388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77080" y="2492280"/>
            <a:ext cx="1523880" cy="127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651640" y="3933720"/>
            <a:ext cx="1523880" cy="1067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508720" y="5157720"/>
            <a:ext cx="15238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Höhepunkt für die Ju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25. - 28. Ma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13. Internationales VW-Pfingsttre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84520" y="1125360"/>
            <a:ext cx="4299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2:10:49Z</dcterms:created>
  <dc:creator>Lehrer</dc:creator>
  <dc:description/>
  <dc:language>en-US</dc:language>
  <cp:lastModifiedBy>Lehrer</cp:lastModifiedBy>
  <dcterms:modified xsi:type="dcterms:W3CDTF">2007-12-06T12:39:54Z</dcterms:modified>
  <cp:revision>3</cp:revision>
  <dc:subject/>
  <dc:title>Folie 1</dc:title>
</cp:coreProperties>
</file>