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A6C-7201-4B05-9AA3-05F6322C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FFE-6B3A-4F0B-A875-81205F5E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9F5-4EC4-484C-ACC4-DE1A87EF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991E-C5A6-4A32-908D-EAE7BA4C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C87F-AF2B-4393-9266-90A5D71B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E817-9462-43F5-8A8B-FF8EBCDE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173A-FECE-43F1-9524-C8117331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6C7B-7487-42B9-8D6E-8C70DEEC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04A2-702F-440F-8ABA-4CF87F72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D8B6-32DD-4ED1-A46A-B3E44EF4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9B0F-F7B1-40FD-9DCE-6EF87053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1A3-218E-4E83-89A8-D75D084A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F2D9-F3F3-4BC8-9606-AED339E8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33B6-6D18-4DEE-81B7-1F74D927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A6FE-6E87-40ED-AA3A-6F49FF05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387E-F888-4D50-94AE-138B4856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D151-0D24-4967-8FF1-13E0EB05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93F-A466-4B6E-B6DE-26A404EB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B21-6942-43B9-B6A3-D8446A08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6DB-2233-409D-9984-BA09BA1A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A0A-A16F-4978-8D5E-8CF7D4A2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9C9-107A-41E4-8538-EF4DBA6F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906-33F7-4A71-BC4E-34C21F2E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B5C-5F73-487D-AFC1-52EADDC3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0576-6CFE-4660-A982-563DF7D051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E808-417E-49DD-A79B-8825DB0A1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er Transistor und seine Anwendu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bert G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lheinz Kuch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urentius Kmet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abine Wa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Schalter, Verstärker, Neg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1640" y="1951200"/>
            <a:ext cx="8172720" cy="3322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1916280"/>
            <a:ext cx="820908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rstellung eines Bauteiletes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Bauteil-Tester eignet sich zum Prüfen von Widerständen, Kondensatoren, Dioden, Leuchtdioden und Transisto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benso ist er als einfacher Durchgangsprüfer nutzb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r Signalisierung wird eine Leuchtdiode verwend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ternativ oder auch zusätzlich kann ein Summer für 9V angeschlossen werden, der akustisch signalis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unktionsbeschreibung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tioniert 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chgangsprüf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densatorprü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odent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chtdiodent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stor-Tes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chaltu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761080" cy="4752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uteilelis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1557360"/>
          <a:ext cx="7634520" cy="4462560"/>
        </p:xfrm>
        <a:graphic>
          <a:graphicData uri="http://schemas.openxmlformats.org/drawingml/2006/table">
            <a:tbl>
              <a:tblPr/>
              <a:tblGrid>
                <a:gridCol w="1630440"/>
                <a:gridCol w="2835360"/>
                <a:gridCol w="3168720"/>
              </a:tblGrid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ic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ute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rt / Ty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erst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kOh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erst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 Oh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i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 547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uchtdi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, 5mm, r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V-Batterie-Cl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arstellung der Ergebnisse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egriffslexikon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t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Quellenverzeichnis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egründung des Them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schichtliche Entwicklu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finder - amerikanische Forscher John Bardeen  und Walter H. Brattain 194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956 erhielten sie dafür den Nobelpre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usammensetzung des Namens aus den englischen Wörtern „transfer“ (übertragen) und „resistor“ (Widerst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Aufbau und Funktionsweise des npn- Transis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stel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08800" y="3246480"/>
            <a:ext cx="51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ufbau und Funktionsweise des npn- Transi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Aufbau und Funktionsweise des npn- Transis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6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lbleiterbauelement mit drei Anschlü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r liegt im Inneren an einer n- oder p- Sch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nach Schichtfolge entstehen npn- oder pnp- Transisto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tlere Schicht Basis (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äußere Schichten Collektor (C) oder Emitter (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Aufbau und Funktionsweise des npn- Transis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trans_mod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688360" cy="3971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124000" y="1916280"/>
            <a:ext cx="1295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Aufbau und Funktionsweise des npn- Transis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kalis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2475000"/>
            <a:ext cx="7848720" cy="2825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2565360"/>
            <a:ext cx="48258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odenvorgänge im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wendungen im täglichen Leben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 Transistor wirkt als Schalter, der mit einem kleinen Basisstrom eine Spannungsquelle ein- und ausschalt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erstärker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satz häufig als Schaltverstä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2:25:37Z</dcterms:created>
  <dc:creator>Besitzer</dc:creator>
  <dc:description/>
  <dc:language>en-US</dc:language>
  <cp:lastModifiedBy>Besitzer</cp:lastModifiedBy>
  <dcterms:modified xsi:type="dcterms:W3CDTF">2007-12-06T13:06:45Z</dcterms:modified>
  <cp:revision>9</cp:revision>
  <dc:subject/>
  <dc:title>Der Transistor und seine Anwendung </dc:title>
</cp:coreProperties>
</file>