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456C-AC57-4578-977E-1651E2E6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815E-BFE5-4311-B755-2A51953B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503-2101-46E0-95C8-CB1EAED4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786-B8C9-42B8-AE20-19C3601B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05D-F13D-41C8-84AE-ADC5A9CD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FB9-31FD-43FC-B4C0-5CCC3374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3A2-C7C1-446A-82BC-F958412E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F236-2907-4C80-B776-85FA1F4B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2E93-6623-4C5C-AC37-576B76C8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E57-2CBD-4590-8F41-0BFDA8D8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8EE-F3A4-4101-A3C2-809937D3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C8D-8BE9-46E2-BDE8-40299A5A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FED4-CA11-4DF6-AD63-089DBFE94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ktion von Gütern in Unterneh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indung von Thema Fertigung, Aufbau und Funktion Maschine und Maschinen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pe 4-          Monta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grpSp>
        <p:nvGrpSpPr>
          <p:cNvPr id="538" name=""/>
          <p:cNvGrpSpPr/>
          <p:nvPr/>
        </p:nvGrpSpPr>
        <p:grpSpPr>
          <a:xfrm>
            <a:off x="685800" y="2133720"/>
            <a:ext cx="7695720" cy="3962160"/>
            <a:chOff x="685800" y="2133720"/>
            <a:chExt cx="7695720" cy="3962160"/>
          </a:xfrm>
        </p:grpSpPr>
        <p:grpSp>
          <p:nvGrpSpPr>
            <p:cNvPr id="539" name=""/>
            <p:cNvGrpSpPr/>
            <p:nvPr/>
          </p:nvGrpSpPr>
          <p:grpSpPr>
            <a:xfrm>
              <a:off x="691920" y="2136600"/>
              <a:ext cx="7682040" cy="3955680"/>
              <a:chOff x="691920" y="2136600"/>
              <a:chExt cx="7682040" cy="3955680"/>
            </a:xfrm>
          </p:grpSpPr>
          <p:grpSp>
            <p:nvGrpSpPr>
              <p:cNvPr id="540" name=""/>
              <p:cNvGrpSpPr/>
              <p:nvPr/>
            </p:nvGrpSpPr>
            <p:grpSpPr>
              <a:xfrm>
                <a:off x="691920" y="2136600"/>
                <a:ext cx="889920" cy="539280"/>
                <a:chOff x="691920" y="2136600"/>
                <a:chExt cx="889920" cy="53928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752400" y="2136600"/>
                  <a:ext cx="768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m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91920" y="2136600"/>
                  <a:ext cx="88992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1582200" y="2136600"/>
                <a:ext cx="2262960" cy="539280"/>
                <a:chOff x="1582200" y="2136600"/>
                <a:chExt cx="2262960" cy="53928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1642680" y="2136600"/>
                  <a:ext cx="21412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eitsschrit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582200" y="2136600"/>
                  <a:ext cx="22629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3845880" y="2136600"/>
                <a:ext cx="2262960" cy="539280"/>
                <a:chOff x="3845880" y="2136600"/>
                <a:chExt cx="2262960" cy="5392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3906360" y="2136600"/>
                  <a:ext cx="21412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erkzeu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845880" y="2136600"/>
                  <a:ext cx="22629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6109200" y="2136600"/>
                <a:ext cx="2264760" cy="539280"/>
                <a:chOff x="6109200" y="2136600"/>
                <a:chExt cx="2264760" cy="53928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6169680" y="2136600"/>
                  <a:ext cx="21438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inwei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109200" y="2136600"/>
                  <a:ext cx="2264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691920" y="2675880"/>
                <a:ext cx="889920" cy="659160"/>
                <a:chOff x="691920" y="2675880"/>
                <a:chExt cx="889920" cy="65916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752400" y="2675880"/>
                  <a:ext cx="7689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91920" y="2675880"/>
                  <a:ext cx="8899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1582200" y="2675880"/>
                <a:ext cx="2262960" cy="659160"/>
                <a:chOff x="1582200" y="2675880"/>
                <a:chExt cx="2262960" cy="6591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1642680" y="2675880"/>
                  <a:ext cx="21412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ontrolle der Einzelteile der Gruppen 1-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582200" y="2675880"/>
                  <a:ext cx="2262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3845880" y="2675880"/>
                <a:ext cx="2262960" cy="659160"/>
                <a:chOff x="3845880" y="2675880"/>
                <a:chExt cx="2262960" cy="65916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3906360" y="2675880"/>
                  <a:ext cx="21412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845880" y="2675880"/>
                  <a:ext cx="2262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6109200" y="2675880"/>
                <a:ext cx="2264760" cy="659160"/>
                <a:chOff x="6109200" y="2675880"/>
                <a:chExt cx="2264760" cy="6591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6169680" y="2675880"/>
                  <a:ext cx="214380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ßgenauigkeit, entgrate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109200" y="2675880"/>
                  <a:ext cx="22647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691920" y="3335400"/>
                <a:ext cx="889920" cy="779040"/>
                <a:chOff x="691920" y="3335400"/>
                <a:chExt cx="889920" cy="7790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52400" y="3335400"/>
                  <a:ext cx="76896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91920" y="3335400"/>
                  <a:ext cx="88992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1582200" y="3335400"/>
                <a:ext cx="2262960" cy="779040"/>
                <a:chOff x="1582200" y="3335400"/>
                <a:chExt cx="2262960" cy="779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642680" y="3335400"/>
                  <a:ext cx="214128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rbinden von Arbeitsspindel und Schwungleiste durch Schraub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582200" y="3335400"/>
                  <a:ext cx="22629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3845880" y="3335400"/>
                <a:ext cx="2262960" cy="779040"/>
                <a:chOff x="3845880" y="3335400"/>
                <a:chExt cx="2262960" cy="77904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3906360" y="3335400"/>
                  <a:ext cx="214128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raubendreh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845880" y="3335400"/>
                  <a:ext cx="22629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6109200" y="3335400"/>
                <a:ext cx="2264760" cy="779040"/>
                <a:chOff x="6109200" y="3335400"/>
                <a:chExt cx="2264760" cy="77904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6169680" y="3335400"/>
                  <a:ext cx="214380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6109200" y="3335400"/>
                  <a:ext cx="22647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691920" y="4114440"/>
                <a:ext cx="889920" cy="779040"/>
                <a:chOff x="691920" y="4114440"/>
                <a:chExt cx="889920" cy="7790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52400" y="4114440"/>
                  <a:ext cx="76896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91920" y="4114440"/>
                  <a:ext cx="88992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1582200" y="4114440"/>
                <a:ext cx="2262960" cy="779040"/>
                <a:chOff x="1582200" y="4114440"/>
                <a:chExt cx="2262960" cy="77904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1642680" y="4114440"/>
                  <a:ext cx="214128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rbinden vo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riebsleiste, Arbeitsspindel und Stri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582200" y="4114440"/>
                  <a:ext cx="22629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3845880" y="4114440"/>
                <a:ext cx="2262960" cy="779040"/>
                <a:chOff x="3845880" y="4114440"/>
                <a:chExt cx="2262960" cy="77904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3906360" y="4114440"/>
                  <a:ext cx="214128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ere, Stahlmaßsta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845880" y="4114440"/>
                  <a:ext cx="22629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6109200" y="4114440"/>
                <a:ext cx="2264760" cy="779040"/>
                <a:chOff x="6109200" y="4114440"/>
                <a:chExt cx="2264760" cy="77904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6169680" y="4114440"/>
                  <a:ext cx="214380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6109200" y="4114440"/>
                  <a:ext cx="22647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691920" y="4893840"/>
                <a:ext cx="889920" cy="659160"/>
                <a:chOff x="691920" y="4893840"/>
                <a:chExt cx="889920" cy="65916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752400" y="4893840"/>
                  <a:ext cx="7689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91920" y="4893840"/>
                  <a:ext cx="8899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1582200" y="4893840"/>
                <a:ext cx="2262960" cy="659160"/>
                <a:chOff x="1582200" y="4893840"/>
                <a:chExt cx="2262960" cy="65916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1642680" y="4893840"/>
                  <a:ext cx="21412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gelkopf abtrennen, Nagel einschlagen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ohrspitze gestalt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582200" y="4893840"/>
                  <a:ext cx="2262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3845880" y="4893840"/>
                <a:ext cx="2262960" cy="659160"/>
                <a:chOff x="3845880" y="4893840"/>
                <a:chExt cx="2262960" cy="65916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3906360" y="4893840"/>
                  <a:ext cx="21412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Zange, Hamm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845880" y="4893840"/>
                  <a:ext cx="2262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6109200" y="4893840"/>
                <a:ext cx="2264760" cy="659160"/>
                <a:chOff x="6109200" y="4893840"/>
                <a:chExt cx="2264760" cy="65916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6169680" y="4893840"/>
                  <a:ext cx="214380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eitsschutz beacht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109200" y="4893840"/>
                  <a:ext cx="22647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691920" y="5553000"/>
                <a:ext cx="889920" cy="539280"/>
                <a:chOff x="691920" y="5553000"/>
                <a:chExt cx="889920" cy="5392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752400" y="5553000"/>
                  <a:ext cx="768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91920" y="5553000"/>
                  <a:ext cx="88992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1582200" y="5553000"/>
                <a:ext cx="2262960" cy="539280"/>
                <a:chOff x="1582200" y="5553000"/>
                <a:chExt cx="2262960" cy="5392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642680" y="5553000"/>
                  <a:ext cx="21412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nktionstüchtigkeit prü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582200" y="5553000"/>
                  <a:ext cx="22629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3845880" y="5553000"/>
                <a:ext cx="2262960" cy="539280"/>
                <a:chOff x="3845880" y="5553000"/>
                <a:chExt cx="2262960" cy="53928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906360" y="5553000"/>
                  <a:ext cx="21412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845880" y="5553000"/>
                  <a:ext cx="22629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6109200" y="5553000"/>
                <a:ext cx="2264760" cy="539280"/>
                <a:chOff x="6109200" y="5553000"/>
                <a:chExt cx="2264760" cy="53928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6169680" y="5553000"/>
                  <a:ext cx="21438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109200" y="5553000"/>
                  <a:ext cx="2264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2" name=""/>
            <p:cNvSpPr/>
            <p:nvPr/>
          </p:nvSpPr>
          <p:spPr>
            <a:xfrm>
              <a:off x="685800" y="2133720"/>
              <a:ext cx="7695720" cy="3962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beitsbla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gt auf den nächsten beiden Fol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ertung der Funktionstüchtigkeit der Rennspi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ktionsprobe der Rennspi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95600" y="-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1295280" y="0"/>
          <a:ext cx="57531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0"/>
                    <a:ext cx="5753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695600" y="-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600200" y="0"/>
          <a:ext cx="57531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0"/>
                    <a:ext cx="5753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uptteile der Mas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zeichne die Funktionsorgane an der Rennspi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38480" y="3048120"/>
            <a:ext cx="0" cy="2438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05320" y="4800600"/>
            <a:ext cx="11430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38280" y="4495680"/>
            <a:ext cx="312444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590920" y="3124080"/>
            <a:ext cx="14475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3124080"/>
            <a:ext cx="14479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03848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5562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0384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638680" y="4572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019920" y="5410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s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5880" y="2895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Übertragungs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53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riebs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74284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8080" y="335268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äger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1952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43000" y="5257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uerungs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m Werkzeug zur Mas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m Hantieren zur Mechanis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fbau einer Mas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952880" y="1981080"/>
          <a:ext cx="34290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3429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ücklis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981080"/>
          <a:ext cx="7772400" cy="4114800"/>
        </p:xfrm>
        <a:graphic>
          <a:graphicData uri="http://schemas.openxmlformats.org/drawingml/2006/table"/>
        </a:graphic>
      </p:graphicFrame>
      <p:sp>
        <p:nvSpPr>
          <p:cNvPr id="49" name=""/>
          <p:cNvSpPr/>
          <p:nvPr/>
        </p:nvSpPr>
        <p:spPr>
          <a:xfrm>
            <a:off x="3240" y="-279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1981080"/>
            <a:ext cx="7772040" cy="4114800"/>
            <a:chOff x="457200" y="1981080"/>
            <a:chExt cx="7772040" cy="4114800"/>
          </a:xfrm>
        </p:grpSpPr>
        <p:grpSp>
          <p:nvGrpSpPr>
            <p:cNvPr id="51" name=""/>
            <p:cNvGrpSpPr/>
            <p:nvPr/>
          </p:nvGrpSpPr>
          <p:grpSpPr>
            <a:xfrm>
              <a:off x="462960" y="1984320"/>
              <a:ext cx="7759800" cy="4107960"/>
              <a:chOff x="462960" y="1984320"/>
              <a:chExt cx="7759800" cy="41079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462960" y="1984320"/>
                <a:ext cx="1150200" cy="659880"/>
                <a:chOff x="462960" y="1984320"/>
                <a:chExt cx="1150200" cy="6598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517320" y="1984320"/>
                  <a:ext cx="104076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fd. Nr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62960" y="1984320"/>
                  <a:ext cx="115020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1613520" y="1984320"/>
                <a:ext cx="1948680" cy="659880"/>
                <a:chOff x="1613520" y="1984320"/>
                <a:chExt cx="1948680" cy="65988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667880" y="1984320"/>
                  <a:ext cx="183960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nennu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613520" y="1984320"/>
                  <a:ext cx="19486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562920" y="1984320"/>
                <a:ext cx="1228320" cy="659880"/>
                <a:chOff x="3562920" y="1984320"/>
                <a:chExt cx="1228320" cy="65988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617280" y="1984320"/>
                  <a:ext cx="111924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ückzah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562920" y="1984320"/>
                  <a:ext cx="122832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791960" y="1984320"/>
                <a:ext cx="1800000" cy="659880"/>
                <a:chOff x="4791960" y="1984320"/>
                <a:chExt cx="1800000" cy="6598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846680" y="1984320"/>
                  <a:ext cx="169056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er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791960" y="1984320"/>
                  <a:ext cx="180000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6592680" y="1984320"/>
                <a:ext cx="1630080" cy="659880"/>
                <a:chOff x="6592680" y="1984320"/>
                <a:chExt cx="1630080" cy="65988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6647400" y="1984320"/>
                  <a:ext cx="152028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messu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592680" y="1984320"/>
                  <a:ext cx="16300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62960" y="2644200"/>
                <a:ext cx="1150200" cy="659880"/>
                <a:chOff x="462960" y="2644200"/>
                <a:chExt cx="1150200" cy="6598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517320" y="2644200"/>
                  <a:ext cx="104076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62960" y="2644200"/>
                  <a:ext cx="115020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613520" y="2644200"/>
                <a:ext cx="1948680" cy="659880"/>
                <a:chOff x="1613520" y="2644200"/>
                <a:chExt cx="1948680" cy="6598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667880" y="2644200"/>
                  <a:ext cx="183960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riebsspinde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613520" y="2644200"/>
                  <a:ext cx="19486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3562920" y="2644200"/>
                <a:ext cx="1228320" cy="659880"/>
                <a:chOff x="3562920" y="2644200"/>
                <a:chExt cx="1228320" cy="659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17280" y="2644200"/>
                  <a:ext cx="111924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562920" y="2644200"/>
                  <a:ext cx="122832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4791960" y="2644200"/>
                <a:ext cx="1800000" cy="659880"/>
                <a:chOff x="4791960" y="2644200"/>
                <a:chExt cx="1800000" cy="659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4846680" y="2644200"/>
                  <a:ext cx="169056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uch/Harthol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791960" y="2644200"/>
                  <a:ext cx="180000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592680" y="2644200"/>
                <a:ext cx="1630080" cy="659880"/>
                <a:chOff x="6592680" y="2644200"/>
                <a:chExt cx="1630080" cy="659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647400" y="2644200"/>
                  <a:ext cx="152028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x 5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592680" y="2644200"/>
                  <a:ext cx="16300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462960" y="3304080"/>
                <a:ext cx="1150200" cy="659880"/>
                <a:chOff x="462960" y="3304080"/>
                <a:chExt cx="1150200" cy="659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17320" y="3304080"/>
                  <a:ext cx="104076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62960" y="3304080"/>
                  <a:ext cx="115020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613520" y="3304080"/>
                <a:ext cx="1948680" cy="659880"/>
                <a:chOff x="1613520" y="3304080"/>
                <a:chExt cx="1948680" cy="659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667880" y="3304080"/>
                  <a:ext cx="183960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riebsleis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613520" y="3304080"/>
                  <a:ext cx="19486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562920" y="3304080"/>
                <a:ext cx="1228320" cy="659880"/>
                <a:chOff x="3562920" y="3304080"/>
                <a:chExt cx="1228320" cy="659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617280" y="3304080"/>
                  <a:ext cx="111924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562920" y="3304080"/>
                  <a:ext cx="122832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791960" y="3304080"/>
                <a:ext cx="1800000" cy="659880"/>
                <a:chOff x="4791960" y="3304080"/>
                <a:chExt cx="1800000" cy="6598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4846680" y="3304080"/>
                  <a:ext cx="169056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iefer/Fich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791960" y="3304080"/>
                  <a:ext cx="180000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6592680" y="3304080"/>
                <a:ext cx="1630080" cy="659880"/>
                <a:chOff x="6592680" y="3304080"/>
                <a:chExt cx="1630080" cy="6598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647400" y="3304080"/>
                  <a:ext cx="152028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 x 30 x 5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592680" y="3304080"/>
                  <a:ext cx="16300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62960" y="3964320"/>
                <a:ext cx="1150200" cy="659880"/>
                <a:chOff x="462960" y="3964320"/>
                <a:chExt cx="1150200" cy="6598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17320" y="3964320"/>
                  <a:ext cx="104076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62960" y="3964320"/>
                  <a:ext cx="115020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613520" y="3964320"/>
                <a:ext cx="1948680" cy="659880"/>
                <a:chOff x="1613520" y="3964320"/>
                <a:chExt cx="1948680" cy="659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667880" y="3964320"/>
                  <a:ext cx="183960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wungleis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613520" y="3964320"/>
                  <a:ext cx="19486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3562920" y="3964320"/>
                <a:ext cx="1228320" cy="659880"/>
                <a:chOff x="3562920" y="3964320"/>
                <a:chExt cx="1228320" cy="659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3617280" y="3964320"/>
                  <a:ext cx="111924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562920" y="3964320"/>
                  <a:ext cx="122832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791960" y="3964320"/>
                <a:ext cx="1800000" cy="659880"/>
                <a:chOff x="4791960" y="3964320"/>
                <a:chExt cx="1800000" cy="659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846680" y="3964320"/>
                  <a:ext cx="169056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iefer/Fich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91960" y="3964320"/>
                  <a:ext cx="180000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592680" y="3964320"/>
                <a:ext cx="1630080" cy="659880"/>
                <a:chOff x="6592680" y="3964320"/>
                <a:chExt cx="1630080" cy="659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647400" y="3964320"/>
                  <a:ext cx="152028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 x 30 x 2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592680" y="3964320"/>
                  <a:ext cx="16300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62960" y="4624200"/>
                <a:ext cx="1150200" cy="489240"/>
                <a:chOff x="462960" y="4624200"/>
                <a:chExt cx="1150200" cy="4892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17320" y="4624200"/>
                  <a:ext cx="10407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62960" y="4624200"/>
                  <a:ext cx="115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613520" y="4624200"/>
                <a:ext cx="1948680" cy="489240"/>
                <a:chOff x="1613520" y="4624200"/>
                <a:chExt cx="1948680" cy="4892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667880" y="4624200"/>
                  <a:ext cx="183960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ge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613520" y="4624200"/>
                  <a:ext cx="194868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3562920" y="4624200"/>
                <a:ext cx="1228320" cy="489240"/>
                <a:chOff x="3562920" y="4624200"/>
                <a:chExt cx="1228320" cy="4892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3617280" y="4624200"/>
                  <a:ext cx="1119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562920" y="4624200"/>
                  <a:ext cx="12283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791960" y="4624200"/>
                <a:ext cx="1800000" cy="489240"/>
                <a:chOff x="4791960" y="4624200"/>
                <a:chExt cx="1800000" cy="4892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846680" y="4624200"/>
                  <a:ext cx="16905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aufte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791960" y="4624200"/>
                  <a:ext cx="18000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6592680" y="4624200"/>
                <a:ext cx="1630080" cy="489240"/>
                <a:chOff x="6592680" y="4624200"/>
                <a:chExt cx="1630080" cy="4892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647400" y="4624200"/>
                  <a:ext cx="152028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x 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92680" y="4624200"/>
                  <a:ext cx="163008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62960" y="5113800"/>
                <a:ext cx="1150200" cy="489240"/>
                <a:chOff x="462960" y="5113800"/>
                <a:chExt cx="1150200" cy="489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17320" y="5113800"/>
                  <a:ext cx="10407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62960" y="5113800"/>
                  <a:ext cx="115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613520" y="5113800"/>
                <a:ext cx="1948680" cy="489240"/>
                <a:chOff x="1613520" y="5113800"/>
                <a:chExt cx="1948680" cy="4892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667880" y="5113800"/>
                  <a:ext cx="183960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ic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613520" y="5113800"/>
                  <a:ext cx="194868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562920" y="5113800"/>
                <a:ext cx="1228320" cy="489240"/>
                <a:chOff x="3562920" y="5113800"/>
                <a:chExt cx="1228320" cy="4892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617280" y="5113800"/>
                  <a:ext cx="1119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562920" y="5113800"/>
                  <a:ext cx="12283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4791960" y="5113800"/>
                <a:ext cx="1800000" cy="489240"/>
                <a:chOff x="4791960" y="5113800"/>
                <a:chExt cx="1800000" cy="4892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846680" y="5113800"/>
                  <a:ext cx="16905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aufte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791960" y="5113800"/>
                  <a:ext cx="18000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592680" y="5113800"/>
                <a:ext cx="1630080" cy="489240"/>
                <a:chOff x="6592680" y="5113800"/>
                <a:chExt cx="1630080" cy="4892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647400" y="5113800"/>
                  <a:ext cx="152028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92680" y="5113800"/>
                  <a:ext cx="163008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62960" y="5603040"/>
                <a:ext cx="1150200" cy="489240"/>
                <a:chOff x="462960" y="5603040"/>
                <a:chExt cx="1150200" cy="4892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17320" y="5603040"/>
                  <a:ext cx="10407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2960" y="5603040"/>
                  <a:ext cx="115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613520" y="5603040"/>
                <a:ext cx="1948680" cy="489240"/>
                <a:chOff x="1613520" y="5603040"/>
                <a:chExt cx="1948680" cy="4892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667880" y="5603040"/>
                  <a:ext cx="183960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raub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13520" y="5603040"/>
                  <a:ext cx="194868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562920" y="5603040"/>
                <a:ext cx="1228320" cy="489240"/>
                <a:chOff x="3562920" y="5603040"/>
                <a:chExt cx="1228320" cy="4892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617280" y="5603040"/>
                  <a:ext cx="1119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562920" y="5603040"/>
                  <a:ext cx="12283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791960" y="5603040"/>
                <a:ext cx="1800000" cy="489240"/>
                <a:chOff x="4791960" y="5603040"/>
                <a:chExt cx="1800000" cy="4892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846680" y="5603040"/>
                  <a:ext cx="16905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aufte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791960" y="5603040"/>
                  <a:ext cx="18000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6592680" y="5603040"/>
                <a:ext cx="1630080" cy="489240"/>
                <a:chOff x="6592680" y="5603040"/>
                <a:chExt cx="1630080" cy="4892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647400" y="5603040"/>
                  <a:ext cx="152028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x 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592680" y="5603040"/>
                  <a:ext cx="163008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" name=""/>
            <p:cNvSpPr/>
            <p:nvPr/>
          </p:nvSpPr>
          <p:spPr>
            <a:xfrm>
              <a:off x="457200" y="1981080"/>
              <a:ext cx="7772040" cy="4114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240" y="6316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riebsleis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280" y="2652840"/>
            <a:ext cx="35431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00672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3241800"/>
            <a:ext cx="114480" cy="11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00680" y="3241800"/>
            <a:ext cx="114120" cy="11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80" y="3241800"/>
            <a:ext cx="4000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2652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3080" y="3830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3080" y="26528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2652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0280" y="383076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3830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0280" y="4710240"/>
            <a:ext cx="354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2652840"/>
            <a:ext cx="34308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324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43200" y="324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51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3362400"/>
            <a:ext cx="68580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49402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08200"/>
            <a:ext cx="9144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347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976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327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327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wungle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1276200"/>
            <a:ext cx="20574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00480" y="162576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29080" y="127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45412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245412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29280" y="1276200"/>
            <a:ext cx="3427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00480" y="18651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7680" y="18651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00480" y="4075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914040" y="127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914040" y="245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28880" y="127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6004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4743360"/>
            <a:ext cx="2057400" cy="57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5010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29080" y="5010120"/>
            <a:ext cx="2286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57680" y="1433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276200"/>
            <a:ext cx="914400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727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260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443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9910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riebsspin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0280" y="3176640"/>
            <a:ext cx="4114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3080" y="3176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176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0280" y="3638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15080" y="3627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3295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280" y="41562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5800" y="3398400"/>
            <a:ext cx="4915080" cy="111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63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143000" y="2941560"/>
            <a:ext cx="114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7480" y="294156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3284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627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432108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886200" y="2930400"/>
            <a:ext cx="343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29280" y="293040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29200" y="206856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30448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5028840" y="29304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0280" y="466416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989000"/>
            <a:ext cx="914400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629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878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878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4229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ie - Reihenfertig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grpSp>
        <p:nvGrpSpPr>
          <p:cNvPr id="234" name=""/>
          <p:cNvGrpSpPr/>
          <p:nvPr/>
        </p:nvGrpSpPr>
        <p:grpSpPr>
          <a:xfrm>
            <a:off x="762120" y="2514600"/>
            <a:ext cx="7695720" cy="3505320"/>
            <a:chOff x="762120" y="2514600"/>
            <a:chExt cx="7695720" cy="3505320"/>
          </a:xfrm>
        </p:grpSpPr>
        <p:grpSp>
          <p:nvGrpSpPr>
            <p:cNvPr id="235" name=""/>
            <p:cNvGrpSpPr/>
            <p:nvPr/>
          </p:nvGrpSpPr>
          <p:grpSpPr>
            <a:xfrm>
              <a:off x="767880" y="2517120"/>
              <a:ext cx="7683120" cy="3499920"/>
              <a:chOff x="767880" y="2517120"/>
              <a:chExt cx="7683120" cy="349992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767880" y="2517120"/>
                <a:ext cx="891720" cy="462960"/>
                <a:chOff x="767880" y="2517120"/>
                <a:chExt cx="891720" cy="4629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822600" y="2517120"/>
                  <a:ext cx="7822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m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67880" y="2517120"/>
                  <a:ext cx="8917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659960" y="2517120"/>
                <a:ext cx="2263320" cy="462960"/>
                <a:chOff x="1659960" y="2517120"/>
                <a:chExt cx="2263320" cy="4629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714680" y="251712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eitsschrit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59960" y="251712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924000" y="2517120"/>
                <a:ext cx="2263320" cy="462960"/>
                <a:chOff x="3924000" y="2517120"/>
                <a:chExt cx="2263320" cy="4629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978720" y="251712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erkzeu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924000" y="251712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187680" y="2517120"/>
                <a:ext cx="2263320" cy="462960"/>
                <a:chOff x="6187680" y="2517120"/>
                <a:chExt cx="2263320" cy="4629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242400" y="251712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inwei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187680" y="251712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767880" y="2980080"/>
                <a:ext cx="891720" cy="360000"/>
                <a:chOff x="767880" y="2980080"/>
                <a:chExt cx="891720" cy="3600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822600" y="2980080"/>
                  <a:ext cx="78228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67880" y="2980080"/>
                  <a:ext cx="891720" cy="3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1659960" y="2980080"/>
                <a:ext cx="2263320" cy="360000"/>
                <a:chOff x="1659960" y="2980080"/>
                <a:chExt cx="2263320" cy="3600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714680" y="2980080"/>
                  <a:ext cx="215388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erialprüfu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659960" y="2980080"/>
                  <a:ext cx="2263320" cy="3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924000" y="2980080"/>
                <a:ext cx="2263320" cy="360000"/>
                <a:chOff x="3924000" y="2980080"/>
                <a:chExt cx="2263320" cy="3600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978720" y="2980080"/>
                  <a:ext cx="215388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924000" y="2980080"/>
                  <a:ext cx="2263320" cy="3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187680" y="2980080"/>
                <a:ext cx="2263320" cy="360000"/>
                <a:chOff x="6187680" y="2980080"/>
                <a:chExt cx="2263320" cy="3600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242400" y="2980080"/>
                  <a:ext cx="215388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chtprü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187680" y="2980080"/>
                  <a:ext cx="2263320" cy="3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767880" y="3340440"/>
                <a:ext cx="891720" cy="463320"/>
                <a:chOff x="767880" y="3340440"/>
                <a:chExt cx="891720" cy="4633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22600" y="3340440"/>
                  <a:ext cx="78228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67880" y="3340440"/>
                  <a:ext cx="8917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1659960" y="3340440"/>
                <a:ext cx="2263320" cy="463320"/>
                <a:chOff x="1659960" y="3340440"/>
                <a:chExt cx="2263320" cy="4633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1714680" y="3340440"/>
                  <a:ext cx="215388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reißen der Länge-  Bezugskanten festle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659960" y="3340440"/>
                  <a:ext cx="22633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924000" y="3340440"/>
                <a:ext cx="2263320" cy="463320"/>
                <a:chOff x="3924000" y="3340440"/>
                <a:chExt cx="2263320" cy="4633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978720" y="3340440"/>
                  <a:ext cx="215388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hlmaßstab, Bleistift, Anschlagwinke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924000" y="3340440"/>
                  <a:ext cx="22633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6187680" y="3340440"/>
                <a:ext cx="2263320" cy="463320"/>
                <a:chOff x="6187680" y="3340440"/>
                <a:chExt cx="2263320" cy="4633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242400" y="3340440"/>
                  <a:ext cx="215388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chtwinkli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187680" y="3340440"/>
                  <a:ext cx="22633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767880" y="3803760"/>
                <a:ext cx="891720" cy="360000"/>
                <a:chOff x="767880" y="3803760"/>
                <a:chExt cx="891720" cy="3600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822600" y="3803760"/>
                  <a:ext cx="78228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67880" y="3803760"/>
                  <a:ext cx="891720" cy="3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659960" y="3803760"/>
                <a:ext cx="2263320" cy="360000"/>
                <a:chOff x="1659960" y="3803760"/>
                <a:chExt cx="2263320" cy="3600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714680" y="3803760"/>
                  <a:ext cx="215388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ä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659960" y="3803760"/>
                  <a:ext cx="2263320" cy="3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3924000" y="3803760"/>
                <a:ext cx="2263320" cy="360000"/>
                <a:chOff x="3924000" y="3803760"/>
                <a:chExt cx="2263320" cy="3600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978720" y="3803760"/>
                  <a:ext cx="215388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insä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24000" y="3803760"/>
                  <a:ext cx="2263320" cy="3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187680" y="3803760"/>
                <a:ext cx="2263320" cy="360000"/>
                <a:chOff x="6187680" y="3803760"/>
                <a:chExt cx="2263320" cy="3600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242400" y="3803760"/>
                  <a:ext cx="215388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eitsschutz beacht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187680" y="3803760"/>
                  <a:ext cx="2263320" cy="3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767880" y="4164120"/>
                <a:ext cx="891720" cy="462960"/>
                <a:chOff x="767880" y="4164120"/>
                <a:chExt cx="891720" cy="462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822600" y="4164120"/>
                  <a:ext cx="7822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67880" y="4164120"/>
                  <a:ext cx="8917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659960" y="4164120"/>
                <a:ext cx="2263320" cy="462960"/>
                <a:chOff x="1659960" y="4164120"/>
                <a:chExt cx="2263320" cy="4629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714680" y="416412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659960" y="416412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924000" y="4164120"/>
                <a:ext cx="2263320" cy="462960"/>
                <a:chOff x="3924000" y="4164120"/>
                <a:chExt cx="2263320" cy="4629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78720" y="416412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papier, Schleifbret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924000" y="416412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6187680" y="4164120"/>
                <a:ext cx="2263320" cy="462960"/>
                <a:chOff x="6187680" y="4164120"/>
                <a:chExt cx="2263320" cy="4629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242400" y="416412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187680" y="416412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767880" y="4627440"/>
                <a:ext cx="891720" cy="462960"/>
                <a:chOff x="767880" y="4627440"/>
                <a:chExt cx="891720" cy="4629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822600" y="4627440"/>
                  <a:ext cx="7822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67880" y="4627440"/>
                  <a:ext cx="8917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1659960" y="4627440"/>
                <a:ext cx="2263320" cy="462960"/>
                <a:chOff x="1659960" y="4627440"/>
                <a:chExt cx="2263320" cy="4629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714680" y="462744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reißen der Bohrungen, Vorstech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659960" y="462744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924000" y="4627440"/>
                <a:ext cx="2263320" cy="462960"/>
                <a:chOff x="3924000" y="4627440"/>
                <a:chExt cx="2263320" cy="462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978720" y="462744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hlmaßstab, Vorstecher, Bleist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924000" y="462744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6187680" y="4627440"/>
                <a:ext cx="2263320" cy="462960"/>
                <a:chOff x="6187680" y="4627440"/>
                <a:chExt cx="2263320" cy="4629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242400" y="462744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 nach Zeichnung arbeit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187680" y="462744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767880" y="5090400"/>
                <a:ext cx="891720" cy="462960"/>
                <a:chOff x="767880" y="5090400"/>
                <a:chExt cx="891720" cy="462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822600" y="5090400"/>
                  <a:ext cx="7822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67880" y="5090400"/>
                  <a:ext cx="8917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1659960" y="5090400"/>
                <a:ext cx="2263320" cy="462960"/>
                <a:chOff x="1659960" y="5090400"/>
                <a:chExt cx="2263320" cy="4629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1714680" y="509040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ohren und Senk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659960" y="509040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924000" y="5090400"/>
                <a:ext cx="2263320" cy="462960"/>
                <a:chOff x="3924000" y="5090400"/>
                <a:chExt cx="2263320" cy="4629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978720" y="509040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ohrmaschine, Bohrer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10mm, Bohrer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2mm, Senk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924000" y="509040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6187680" y="5090400"/>
                <a:ext cx="2263320" cy="462960"/>
                <a:chOff x="6187680" y="5090400"/>
                <a:chExt cx="2263320" cy="4629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242400" y="509040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187680" y="509040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767880" y="5553720"/>
                <a:ext cx="891720" cy="463320"/>
                <a:chOff x="767880" y="5553720"/>
                <a:chExt cx="891720" cy="463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822600" y="5553720"/>
                  <a:ext cx="78228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67880" y="5553720"/>
                  <a:ext cx="8917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1659960" y="5553720"/>
                <a:ext cx="2263320" cy="463320"/>
                <a:chOff x="1659960" y="5553720"/>
                <a:chExt cx="2263320" cy="4633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1714680" y="5553720"/>
                  <a:ext cx="215388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rschlei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59960" y="5553720"/>
                  <a:ext cx="22633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924000" y="5553720"/>
                <a:ext cx="2263320" cy="463320"/>
                <a:chOff x="3924000" y="5553720"/>
                <a:chExt cx="2263320" cy="4633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978720" y="5553720"/>
                  <a:ext cx="215388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papier, Schleifbret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24000" y="5553720"/>
                  <a:ext cx="22633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187680" y="5553720"/>
                <a:ext cx="2263320" cy="463320"/>
                <a:chOff x="6187680" y="5553720"/>
                <a:chExt cx="2263320" cy="4633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42400" y="5553720"/>
                  <a:ext cx="215388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                 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187680" y="5553720"/>
                  <a:ext cx="22633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>
              <a:off x="762120" y="2514600"/>
              <a:ext cx="7695720" cy="3505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295280" y="144792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pe 1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gung der Schwungle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pe 2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gung der Antriebsleis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grpSp>
        <p:nvGrpSpPr>
          <p:cNvPr id="336" name=""/>
          <p:cNvGrpSpPr/>
          <p:nvPr/>
        </p:nvGrpSpPr>
        <p:grpSpPr>
          <a:xfrm>
            <a:off x="685800" y="1828800"/>
            <a:ext cx="7772040" cy="4191120"/>
            <a:chOff x="685800" y="1828800"/>
            <a:chExt cx="7772040" cy="4191120"/>
          </a:xfrm>
        </p:grpSpPr>
        <p:grpSp>
          <p:nvGrpSpPr>
            <p:cNvPr id="337" name=""/>
            <p:cNvGrpSpPr/>
            <p:nvPr/>
          </p:nvGrpSpPr>
          <p:grpSpPr>
            <a:xfrm>
              <a:off x="691560" y="1831680"/>
              <a:ext cx="7759800" cy="4184280"/>
              <a:chOff x="691560" y="1831680"/>
              <a:chExt cx="7759800" cy="418428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691560" y="1831680"/>
                <a:ext cx="900360" cy="553680"/>
                <a:chOff x="691560" y="1831680"/>
                <a:chExt cx="900360" cy="5536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46640" y="1831680"/>
                  <a:ext cx="78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m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91560" y="1831680"/>
                  <a:ext cx="900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592280" y="1831680"/>
                <a:ext cx="2286000" cy="553680"/>
                <a:chOff x="1592280" y="1831680"/>
                <a:chExt cx="2286000" cy="5536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647360" y="18316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eitsschrit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592280" y="18316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3879000" y="1831680"/>
                <a:ext cx="2286000" cy="553680"/>
                <a:chOff x="3879000" y="1831680"/>
                <a:chExt cx="2286000" cy="5536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3934080" y="18316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erkzeu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879000" y="18316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6165360" y="1831680"/>
                <a:ext cx="2286000" cy="553680"/>
                <a:chOff x="6165360" y="1831680"/>
                <a:chExt cx="2286000" cy="5536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6220440" y="18316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inwei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165360" y="18316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91560" y="2385360"/>
                <a:ext cx="900360" cy="430560"/>
                <a:chOff x="691560" y="2385360"/>
                <a:chExt cx="900360" cy="4305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746640" y="2385360"/>
                  <a:ext cx="78984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91560" y="2385360"/>
                  <a:ext cx="900360" cy="43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592280" y="2385360"/>
                <a:ext cx="2286000" cy="430560"/>
                <a:chOff x="1592280" y="2385360"/>
                <a:chExt cx="2286000" cy="4305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647360" y="2385360"/>
                  <a:ext cx="217548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erialprüfu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592280" y="2385360"/>
                  <a:ext cx="2286000" cy="43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3879000" y="2385360"/>
                <a:ext cx="2286000" cy="430560"/>
                <a:chOff x="3879000" y="2385360"/>
                <a:chExt cx="2286000" cy="4305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3934080" y="2385360"/>
                  <a:ext cx="217548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879000" y="2385360"/>
                  <a:ext cx="2286000" cy="43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6165360" y="2385360"/>
                <a:ext cx="2286000" cy="430560"/>
                <a:chOff x="6165360" y="2385360"/>
                <a:chExt cx="2286000" cy="4305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220440" y="2385360"/>
                  <a:ext cx="217548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chtprü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165360" y="2385360"/>
                  <a:ext cx="2286000" cy="43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91560" y="2816280"/>
                <a:ext cx="900360" cy="553680"/>
                <a:chOff x="691560" y="2816280"/>
                <a:chExt cx="900360" cy="5536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746640" y="2816280"/>
                  <a:ext cx="78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91560" y="2816280"/>
                  <a:ext cx="900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592280" y="2816280"/>
                <a:ext cx="2286000" cy="553680"/>
                <a:chOff x="1592280" y="2816280"/>
                <a:chExt cx="2286000" cy="5536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647360" y="28162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reißen der Länge-  Bezugskanten festle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592280" y="28162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3879000" y="2816280"/>
                <a:ext cx="2286000" cy="553680"/>
                <a:chOff x="3879000" y="2816280"/>
                <a:chExt cx="2286000" cy="5536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3934080" y="28162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hlmaßstab, Bleistift, Anschlagwinke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879000" y="28162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6165360" y="2816280"/>
                <a:ext cx="2286000" cy="553680"/>
                <a:chOff x="6165360" y="2816280"/>
                <a:chExt cx="2286000" cy="5536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220440" y="28162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chtwinkli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165360" y="28162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91560" y="3369960"/>
                <a:ext cx="900360" cy="430560"/>
                <a:chOff x="691560" y="3369960"/>
                <a:chExt cx="900360" cy="4305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746640" y="3369960"/>
                  <a:ext cx="78984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91560" y="3369960"/>
                  <a:ext cx="900360" cy="43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592280" y="3369960"/>
                <a:ext cx="2286000" cy="430560"/>
                <a:chOff x="1592280" y="3369960"/>
                <a:chExt cx="2286000" cy="4305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647360" y="3369960"/>
                  <a:ext cx="217548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ä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592280" y="3369960"/>
                  <a:ext cx="2286000" cy="43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879000" y="3369960"/>
                <a:ext cx="2286000" cy="430560"/>
                <a:chOff x="3879000" y="3369960"/>
                <a:chExt cx="2286000" cy="4305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934080" y="3369960"/>
                  <a:ext cx="217548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insä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879000" y="3369960"/>
                  <a:ext cx="2286000" cy="43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6165360" y="3369960"/>
                <a:ext cx="2286000" cy="430560"/>
                <a:chOff x="6165360" y="3369960"/>
                <a:chExt cx="2286000" cy="4305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220440" y="3369960"/>
                  <a:ext cx="217548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eitsschutz beacht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165360" y="3369960"/>
                  <a:ext cx="2286000" cy="43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691560" y="3800880"/>
                <a:ext cx="900360" cy="553680"/>
                <a:chOff x="691560" y="3800880"/>
                <a:chExt cx="900360" cy="5536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746640" y="3800880"/>
                  <a:ext cx="78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91560" y="3800880"/>
                  <a:ext cx="900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1592280" y="3800880"/>
                <a:ext cx="2286000" cy="553680"/>
                <a:chOff x="1592280" y="3800880"/>
                <a:chExt cx="2286000" cy="5536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647360" y="38008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592280" y="38008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3879000" y="3800880"/>
                <a:ext cx="2286000" cy="553680"/>
                <a:chOff x="3879000" y="3800880"/>
                <a:chExt cx="2286000" cy="55368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3934080" y="38008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papier, Schleifbret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879000" y="38008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6165360" y="3800880"/>
                <a:ext cx="2286000" cy="553680"/>
                <a:chOff x="6165360" y="3800880"/>
                <a:chExt cx="2286000" cy="55368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6220440" y="38008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165360" y="38008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691560" y="4354560"/>
                <a:ext cx="900360" cy="553680"/>
                <a:chOff x="691560" y="4354560"/>
                <a:chExt cx="900360" cy="55368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746640" y="4354560"/>
                  <a:ext cx="78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91560" y="4354560"/>
                  <a:ext cx="900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592280" y="4354560"/>
                <a:ext cx="2286000" cy="553680"/>
                <a:chOff x="1592280" y="4354560"/>
                <a:chExt cx="2286000" cy="5536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647360" y="435456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reißen der Bohrungen, Vorstech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592280" y="435456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3879000" y="4354560"/>
                <a:ext cx="2286000" cy="553680"/>
                <a:chOff x="3879000" y="4354560"/>
                <a:chExt cx="2286000" cy="55368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3934080" y="435456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hlmaßstab, Vorstecher, Bleist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879000" y="435456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165360" y="4354560"/>
                <a:ext cx="2286000" cy="553680"/>
                <a:chOff x="6165360" y="4354560"/>
                <a:chExt cx="2286000" cy="5536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6220440" y="435456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 nach Zeichnung arbeit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165360" y="435456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91560" y="4908600"/>
                <a:ext cx="900360" cy="553680"/>
                <a:chOff x="691560" y="4908600"/>
                <a:chExt cx="900360" cy="55368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746640" y="4908600"/>
                  <a:ext cx="78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91560" y="4908600"/>
                  <a:ext cx="900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1592280" y="4908600"/>
                <a:ext cx="2286000" cy="553680"/>
                <a:chOff x="1592280" y="4908600"/>
                <a:chExt cx="2286000" cy="55368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647360" y="490860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ohren und Senk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592280" y="490860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3879000" y="4908600"/>
                <a:ext cx="2286000" cy="553680"/>
                <a:chOff x="3879000" y="4908600"/>
                <a:chExt cx="2286000" cy="5536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934080" y="490860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ohrmaschine, Bohrer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11mm, Bohrer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3mm, Senk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879000" y="490860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165360" y="4908600"/>
                <a:ext cx="2286000" cy="553680"/>
                <a:chOff x="6165360" y="4908600"/>
                <a:chExt cx="2286000" cy="5536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220440" y="490860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165360" y="490860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91560" y="5462280"/>
                <a:ext cx="900360" cy="553680"/>
                <a:chOff x="691560" y="5462280"/>
                <a:chExt cx="900360" cy="5536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746640" y="5462280"/>
                  <a:ext cx="78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91560" y="5462280"/>
                  <a:ext cx="900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592280" y="5462280"/>
                <a:ext cx="2286000" cy="553680"/>
                <a:chOff x="1592280" y="5462280"/>
                <a:chExt cx="2286000" cy="5536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647360" y="54622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rschlei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592280" y="54622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879000" y="5462280"/>
                <a:ext cx="2286000" cy="553680"/>
                <a:chOff x="3879000" y="5462280"/>
                <a:chExt cx="2286000" cy="5536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3934080" y="54622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papier, Schleifbret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879000" y="54622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6165360" y="5462280"/>
                <a:ext cx="2286000" cy="553680"/>
                <a:chOff x="6165360" y="5462280"/>
                <a:chExt cx="2286000" cy="55368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220440" y="54622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                 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165360" y="54622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4" name=""/>
            <p:cNvSpPr/>
            <p:nvPr/>
          </p:nvSpPr>
          <p:spPr>
            <a:xfrm>
              <a:off x="685800" y="1828800"/>
              <a:ext cx="7772040" cy="4191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pe 3-  Fertigung der Arbeitsspind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grpSp>
        <p:nvGrpSpPr>
          <p:cNvPr id="437" name=""/>
          <p:cNvGrpSpPr/>
          <p:nvPr/>
        </p:nvGrpSpPr>
        <p:grpSpPr>
          <a:xfrm>
            <a:off x="685800" y="1981080"/>
            <a:ext cx="7772040" cy="4114800"/>
            <a:chOff x="685800" y="1981080"/>
            <a:chExt cx="7772040" cy="4114800"/>
          </a:xfrm>
        </p:grpSpPr>
        <p:grpSp>
          <p:nvGrpSpPr>
            <p:cNvPr id="438" name=""/>
            <p:cNvGrpSpPr/>
            <p:nvPr/>
          </p:nvGrpSpPr>
          <p:grpSpPr>
            <a:xfrm>
              <a:off x="691560" y="1983960"/>
              <a:ext cx="7759800" cy="4108680"/>
              <a:chOff x="691560" y="1983960"/>
              <a:chExt cx="7759800" cy="410868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691560" y="1983960"/>
                <a:ext cx="900360" cy="543600"/>
                <a:chOff x="691560" y="1983960"/>
                <a:chExt cx="900360" cy="5436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46640" y="1983960"/>
                  <a:ext cx="78984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m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91560" y="1983960"/>
                  <a:ext cx="90036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1592280" y="1983960"/>
                <a:ext cx="2286000" cy="543600"/>
                <a:chOff x="1592280" y="1983960"/>
                <a:chExt cx="2286000" cy="5436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1647360" y="198396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eitsschrit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592280" y="198396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879000" y="1983960"/>
                <a:ext cx="2286000" cy="543600"/>
                <a:chOff x="3879000" y="1983960"/>
                <a:chExt cx="2286000" cy="5436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934080" y="198396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erkzeu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879000" y="198396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6165360" y="1983960"/>
                <a:ext cx="2286000" cy="543600"/>
                <a:chOff x="6165360" y="1983960"/>
                <a:chExt cx="2286000" cy="5436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220440" y="198396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inwei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165360" y="198396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691560" y="2527560"/>
                <a:ext cx="900360" cy="423000"/>
                <a:chOff x="691560" y="2527560"/>
                <a:chExt cx="900360" cy="4230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746640" y="2527560"/>
                  <a:ext cx="78984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91560" y="2527560"/>
                  <a:ext cx="90036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1592280" y="2527560"/>
                <a:ext cx="2286000" cy="423000"/>
                <a:chOff x="1592280" y="2527560"/>
                <a:chExt cx="2286000" cy="42300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1647360" y="252756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erialprüfu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592280" y="252756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3879000" y="2527560"/>
                <a:ext cx="2286000" cy="423000"/>
                <a:chOff x="3879000" y="2527560"/>
                <a:chExt cx="2286000" cy="4230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3934080" y="252756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879000" y="252756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165360" y="2527560"/>
                <a:ext cx="2286000" cy="423000"/>
                <a:chOff x="6165360" y="2527560"/>
                <a:chExt cx="2286000" cy="4230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220440" y="252756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chtprü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165360" y="252756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691560" y="2950560"/>
                <a:ext cx="900360" cy="543600"/>
                <a:chOff x="691560" y="2950560"/>
                <a:chExt cx="900360" cy="5436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746640" y="2950560"/>
                  <a:ext cx="78984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91560" y="2950560"/>
                  <a:ext cx="90036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1592280" y="2950560"/>
                <a:ext cx="2286000" cy="543600"/>
                <a:chOff x="1592280" y="2950560"/>
                <a:chExt cx="2286000" cy="5436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1647360" y="295056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reißen der Länge-  Bezugskanten festle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592280" y="295056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879000" y="2950560"/>
                <a:ext cx="2286000" cy="543600"/>
                <a:chOff x="3879000" y="2950560"/>
                <a:chExt cx="2286000" cy="5436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934080" y="295056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hlmaßstab, Bleistift, Anschlagwinke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879000" y="295056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165360" y="2950560"/>
                <a:ext cx="2286000" cy="543600"/>
                <a:chOff x="6165360" y="2950560"/>
                <a:chExt cx="2286000" cy="5436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220440" y="295056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chtwinkli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165360" y="295056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691560" y="3494520"/>
                <a:ext cx="900360" cy="423000"/>
                <a:chOff x="691560" y="3494520"/>
                <a:chExt cx="900360" cy="42300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746640" y="3494520"/>
                  <a:ext cx="78984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91560" y="3494520"/>
                  <a:ext cx="90036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1592280" y="3494520"/>
                <a:ext cx="2286000" cy="423000"/>
                <a:chOff x="1592280" y="3494520"/>
                <a:chExt cx="2286000" cy="4230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1647360" y="349452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ä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592280" y="349452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879000" y="3494520"/>
                <a:ext cx="2286000" cy="423000"/>
                <a:chOff x="3879000" y="3494520"/>
                <a:chExt cx="2286000" cy="42300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934080" y="349452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insä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879000" y="349452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6165360" y="3494520"/>
                <a:ext cx="2286000" cy="423000"/>
                <a:chOff x="6165360" y="3494520"/>
                <a:chExt cx="2286000" cy="42300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220440" y="349452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eitsschutz beacht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165360" y="349452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691560" y="3917520"/>
                <a:ext cx="900360" cy="543600"/>
                <a:chOff x="691560" y="3917520"/>
                <a:chExt cx="900360" cy="54360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746640" y="3917520"/>
                  <a:ext cx="78984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91560" y="3917520"/>
                  <a:ext cx="90036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1592280" y="3917520"/>
                <a:ext cx="2286000" cy="543600"/>
                <a:chOff x="1592280" y="3917520"/>
                <a:chExt cx="2286000" cy="5436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647360" y="391752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592280" y="391752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3879000" y="3917520"/>
                <a:ext cx="2286000" cy="543600"/>
                <a:chOff x="3879000" y="3917520"/>
                <a:chExt cx="2286000" cy="54360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3934080" y="391752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papier, Schleifbret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879000" y="391752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6165360" y="3917520"/>
                <a:ext cx="2286000" cy="543600"/>
                <a:chOff x="6165360" y="3917520"/>
                <a:chExt cx="2286000" cy="5436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6220440" y="391752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165360" y="391752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91560" y="4461120"/>
                <a:ext cx="900360" cy="543600"/>
                <a:chOff x="691560" y="4461120"/>
                <a:chExt cx="900360" cy="5436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746640" y="4461120"/>
                  <a:ext cx="78984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91560" y="4461120"/>
                  <a:ext cx="90036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1592280" y="4461120"/>
                <a:ext cx="2286000" cy="543600"/>
                <a:chOff x="1592280" y="4461120"/>
                <a:chExt cx="2286000" cy="54360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1647360" y="446112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reißen der Bohrungen, Vorstech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592280" y="446112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3879000" y="4461120"/>
                <a:ext cx="2286000" cy="543600"/>
                <a:chOff x="3879000" y="4461120"/>
                <a:chExt cx="2286000" cy="5436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3934080" y="446112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hlmaßstab, Vorstecher, Bleist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879000" y="446112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6165360" y="4461120"/>
                <a:ext cx="2286000" cy="543600"/>
                <a:chOff x="6165360" y="4461120"/>
                <a:chExt cx="2286000" cy="5436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220440" y="446112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 nach Zeichnung arbeit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165360" y="446112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691560" y="5005080"/>
                <a:ext cx="900360" cy="423000"/>
                <a:chOff x="691560" y="5005080"/>
                <a:chExt cx="900360" cy="42300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746640" y="5005080"/>
                  <a:ext cx="78984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91560" y="5005080"/>
                  <a:ext cx="90036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592280" y="5005080"/>
                <a:ext cx="2286000" cy="423000"/>
                <a:chOff x="1592280" y="5005080"/>
                <a:chExt cx="2286000" cy="4230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1647360" y="500508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ohren und Senk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592280" y="500508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3879000" y="5005080"/>
                <a:ext cx="2286000" cy="423000"/>
                <a:chOff x="3879000" y="5005080"/>
                <a:chExt cx="2286000" cy="42300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934080" y="500508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ohrmaschine, Bohrer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3mm,  Senk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879000" y="500508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6165360" y="5005080"/>
                <a:ext cx="2286000" cy="423000"/>
                <a:chOff x="6165360" y="5005080"/>
                <a:chExt cx="2286000" cy="4230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220440" y="500508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165360" y="500508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691560" y="5428080"/>
                <a:ext cx="900360" cy="664560"/>
                <a:chOff x="691560" y="5428080"/>
                <a:chExt cx="900360" cy="6645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746640" y="5428080"/>
                  <a:ext cx="789840" cy="66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91560" y="5428080"/>
                  <a:ext cx="900360" cy="66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1592280" y="5428080"/>
                <a:ext cx="2286000" cy="664560"/>
                <a:chOff x="1592280" y="5428080"/>
                <a:chExt cx="2286000" cy="6645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1647360" y="5428080"/>
                  <a:ext cx="2175480" cy="66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rschlei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592280" y="5428080"/>
                  <a:ext cx="2286000" cy="66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3879000" y="5428080"/>
                <a:ext cx="2286000" cy="664560"/>
                <a:chOff x="3879000" y="5428080"/>
                <a:chExt cx="2286000" cy="66456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3934080" y="5428080"/>
                  <a:ext cx="2175480" cy="66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papier, Schleifbret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79000" y="5428080"/>
                  <a:ext cx="2286000" cy="66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165360" y="5428080"/>
                <a:ext cx="2286000" cy="664560"/>
                <a:chOff x="6165360" y="5428080"/>
                <a:chExt cx="2286000" cy="6645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220440" y="5428080"/>
                  <a:ext cx="2175480" cy="66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                 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165360" y="5428080"/>
                  <a:ext cx="2286000" cy="66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5" name=""/>
            <p:cNvSpPr/>
            <p:nvPr/>
          </p:nvSpPr>
          <p:spPr>
            <a:xfrm>
              <a:off x="685800" y="1981080"/>
              <a:ext cx="7772040" cy="4114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2:54:32Z</dcterms:created>
  <dc:creator>wb_11</dc:creator>
  <dc:description/>
  <dc:language>en-US</dc:language>
  <cp:lastModifiedBy>wb_11</cp:lastModifiedBy>
  <dcterms:modified xsi:type="dcterms:W3CDTF">2004-12-16T13:48:04Z</dcterms:modified>
  <cp:revision>2</cp:revision>
  <dc:subject/>
  <dc:title>Produktion von Gütern in Unternehmen</dc:title>
</cp:coreProperties>
</file>