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E16-7BBE-4263-856D-25403E53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37E-07C4-4283-880D-4DBB594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0CA-5A78-44FC-9C92-94053E01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6C6-D2C9-4D9C-9AD7-A443D8B6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39B-B6F4-4F3A-A815-C3344E0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719-1831-4B6D-AAA4-863E1D5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E66-BFE0-4D14-A617-111783D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D03-DDF6-4525-A2F8-7F22029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273-4044-4F74-ADD5-1BC1BB6A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F98-7515-46BA-804C-3CC6E8A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F47-88E7-460C-AEA6-74F2139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9CC-6DEF-45AE-A066-65A1A24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2538-45B5-4437-9635-F158924A9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2057400"/>
            <a:ext cx="4643280" cy="14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r superge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04812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ndyhalt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tze Han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g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ßstüt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g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holz 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x65x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ückw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rrhol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x64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nn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stoff / 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mess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 txBox="1"/>
          <p:nvPr/>
        </p:nvSpPr>
        <p:spPr>
          <a:xfrm>
            <a:off x="3429000" y="533520"/>
            <a:ext cx="2533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ücklist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Z-Teil%202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27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Z-Teil%201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895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90720" y="762120"/>
          <a:ext cx="7315200" cy="5867280"/>
        </p:xfrm>
        <a:graphic>
          <a:graphicData uri="http://schemas.openxmlformats.org/drawingml/2006/table">
            <a:tbl>
              <a:tblPr/>
              <a:tblGrid>
                <a:gridCol w="960480"/>
                <a:gridCol w="2620800"/>
                <a:gridCol w="2209680"/>
                <a:gridCol w="1524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fd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sschri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smitte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kze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merkung/Abmaß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hmaßkontr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reißen Rückw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, Winkel, Bleist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x65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gen 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nsäge (Laubsä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leifen 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f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dschleifer (Fe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reißen Fuß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, Winkel, Bleist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x65x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gen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nsä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leifen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f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dschleifer (Fe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eben –Verbinden der Teile 3-4 mi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zkaltl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h Skiz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eben der Rück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zkaltl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1981080" y="76320"/>
            <a:ext cx="5715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rbeitsablaufp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76520" y="457200"/>
            <a:ext cx="5715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ewertungsvorschläg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600200"/>
            <a:ext cx="62481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 Bewertungskriteri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chu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dnung / Sauberkeit am Arbeits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durch den Lehrer (Beobachtungsbö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kstückbe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ßhalt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indungsqualitä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bewertung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2:36:53Z</dcterms:created>
  <dc:creator>wb_13</dc:creator>
  <dc:description/>
  <dc:language>en-US</dc:language>
  <cp:lastModifiedBy>wb_13</cp:lastModifiedBy>
  <dcterms:modified xsi:type="dcterms:W3CDTF">2004-12-16T13:29:00Z</dcterms:modified>
  <cp:revision>4</cp:revision>
  <dc:subject/>
  <dc:title>PowerPoint-Präsentation</dc:title>
</cp:coreProperties>
</file>