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4825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1371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2666520"/>
            <a:ext cx="8420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537440"/>
            <a:ext cx="8420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1371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2666520"/>
            <a:ext cx="410868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2666520"/>
            <a:ext cx="410868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537440"/>
            <a:ext cx="410868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537440"/>
            <a:ext cx="410868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1371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2666520"/>
            <a:ext cx="27111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2666520"/>
            <a:ext cx="27111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2666520"/>
            <a:ext cx="27111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537440"/>
            <a:ext cx="27111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537440"/>
            <a:ext cx="27111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537440"/>
            <a:ext cx="271116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1371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2666520"/>
            <a:ext cx="842004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1371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2666520"/>
            <a:ext cx="842004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371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2666520"/>
            <a:ext cx="410868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2666520"/>
            <a:ext cx="410868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1371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1371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1371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2666520"/>
            <a:ext cx="410868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2666520"/>
            <a:ext cx="410868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537440"/>
            <a:ext cx="410868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1371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2666520"/>
            <a:ext cx="410868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2666520"/>
            <a:ext cx="410868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537440"/>
            <a:ext cx="410868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1371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2666520"/>
            <a:ext cx="410868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2666520"/>
            <a:ext cx="410868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537440"/>
            <a:ext cx="8420040" cy="17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1371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2666520"/>
            <a:ext cx="842004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2800" indent="-26280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080" indent="-2181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3360" indent="-173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22920" indent="-17460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73200" indent="-174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73200" indent="-174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73200" indent="-174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57320"/>
            <a:ext cx="9163080" cy="763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6603840"/>
            <a:ext cx="140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E Dezember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742160" y="244440"/>
          <a:ext cx="1873440" cy="839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2160" y="244440"/>
                    <a:ext cx="187344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62120" y="5335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 rot="10800000">
            <a:off x="533520" y="1295280"/>
            <a:ext cx="209520" cy="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32040" bIns="32040" anchor="ctr">
            <a:noAutofit/>
          </a:bodyPr>
          <a:p>
            <a:pPr indent="0">
              <a:buNone/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0" y="1828800"/>
            <a:ext cx="2895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bb.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e Biogasproduktion. Mit diesem freundlichen Serviceteam beginnt die Prozessket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a_1603_1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628632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4572000"/>
            <a:ext cx="47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bb.  2  Die vier Phasen der Biogasbildung.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6095880"/>
            <a:ext cx="40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bb. 3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hemische Zusammensetzung von Bio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a_1603_gra2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6167160" cy="2927520"/>
          </a:xfrm>
          <a:prstGeom prst="rect">
            <a:avLst/>
          </a:prstGeom>
          <a:ln w="0">
            <a:noFill/>
          </a:ln>
        </p:spPr>
      </p:pic>
      <p:pic>
        <p:nvPicPr>
          <p:cNvPr id="49" name="ba_1603_tab3" descr=""/>
          <p:cNvPicPr/>
          <p:nvPr/>
        </p:nvPicPr>
        <p:blipFill>
          <a:blip r:embed="rId3"/>
          <a:stretch/>
        </p:blipFill>
        <p:spPr>
          <a:xfrm>
            <a:off x="5562720" y="4419720"/>
            <a:ext cx="380988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6019920"/>
            <a:ext cx="868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bb. 6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ypische Kenndaten für ein Biogas mit 60% Methan, 38 % Kohlendioxid und 2% Spurengase im Vergleich zu anderen Gas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581280"/>
            <a:ext cx="815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bb. 7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erkmale verschiedener Motorentypen beim Betrieb mit Bio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a_1603_tab7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8458200" cy="2100240"/>
          </a:xfrm>
          <a:prstGeom prst="rect">
            <a:avLst/>
          </a:prstGeom>
          <a:ln w="0">
            <a:noFill/>
          </a:ln>
        </p:spPr>
      </p:pic>
      <p:pic>
        <p:nvPicPr>
          <p:cNvPr id="53" name="ba_1603_tab6" descr=""/>
          <p:cNvPicPr/>
          <p:nvPr/>
        </p:nvPicPr>
        <p:blipFill>
          <a:blip r:embed="rId3"/>
          <a:stretch/>
        </p:blipFill>
        <p:spPr>
          <a:xfrm>
            <a:off x="457200" y="4191120"/>
            <a:ext cx="822960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6019920"/>
            <a:ext cx="548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bb.  4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urchschnittliche Biogaserträge verschiedener biologischer Reststoff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a_1603_gra4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92468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5638680"/>
            <a:ext cx="2590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bb. 5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chema einer Biogasanlage mit Kofermentation und einstufigem Ferm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a_1603_5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67057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5943600"/>
            <a:ext cx="388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bb. 8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iogas - eine kohlendioxid-neutrale Energieque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a_1603_8" descr=""/>
          <p:cNvPicPr/>
          <p:nvPr/>
        </p:nvPicPr>
        <p:blipFill>
          <a:blip r:embed="rId2"/>
          <a:stretch/>
        </p:blipFill>
        <p:spPr>
          <a:xfrm>
            <a:off x="4654440" y="1295280"/>
            <a:ext cx="4950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0:59:49Z</dcterms:created>
  <dc:creator>BINE Informationsdienste</dc:creator>
  <dc:description/>
  <dc:language>en-US</dc:language>
  <cp:lastModifiedBy>FIZ-Karlsruhe</cp:lastModifiedBy>
  <dcterms:modified xsi:type="dcterms:W3CDTF">2003-12-17T11:48:30Z</dcterms:modified>
  <cp:revision>26</cp:revision>
  <dc:subject/>
  <dc:title>Biogas</dc:title>
</cp:coreProperties>
</file>