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8FB-220A-47D0-BB84-14AE9CA4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E6E-2FF1-4A6B-9447-8991C0D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F4C-F98E-4552-BE7D-741A5E2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978-3CC7-4394-AAF2-22DEEB28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31C-ED50-4F91-B866-CA74D5B8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5BF-C7EB-4D51-B5C5-D38F4E8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93E-6206-483B-B932-312D3689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B0A-4B27-46B1-9C82-2D3D035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116-0C64-4BBB-8E76-9DAAA03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6BB-C0B1-49EB-9988-B861F2D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E71-D8C4-4766-A9B1-A48B75F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97B-FFC3-4A22-A250-F898951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97F0-A6CF-4193-B374-CAE3ABCA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4560" y="63828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ba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sition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6960" y="2286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atellitenbahnen mit massstabsgetreuen Abständen"/>
          <p:cNvPicPr/>
          <p:nvPr/>
        </p:nvPicPr>
        <p:blipFill>
          <a:blip r:embed="rId1"/>
          <a:stretch/>
        </p:blipFill>
        <p:spPr>
          <a:xfrm>
            <a:off x="304920" y="228600"/>
            <a:ext cx="201456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560" y="21337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Satellit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 6 Umlaufba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itionsbestimmung mit zwei Satelliten in einer 2-dimensionalen Welt"/>
          <p:cNvPicPr/>
          <p:nvPr/>
        </p:nvPicPr>
        <p:blipFill>
          <a:blip r:embed="rId2"/>
          <a:stretch/>
        </p:blipFill>
        <p:spPr>
          <a:xfrm>
            <a:off x="5695920" y="2743200"/>
            <a:ext cx="329580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8960" y="533412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chn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fernung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windigkeit x 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ps%20traktor%20satelliten%20mit%20referenzstation" descr=""/>
          <p:cNvPicPr/>
          <p:nvPr/>
        </p:nvPicPr>
        <p:blipFill>
          <a:blip r:embed="rId3"/>
          <a:stretch/>
        </p:blipFill>
        <p:spPr>
          <a:xfrm>
            <a:off x="0" y="3157560"/>
            <a:ext cx="5715000" cy="370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4640" y="62485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fä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3040" y="289548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Elemente: Satelliten, Empfänger, Referenz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05160" y="1371600"/>
            <a:ext cx="439416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litärische Zwecke (Raketensteu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vigationssystem 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sion Far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PS-Block IIF-Satellit"/>
          <p:cNvPicPr/>
          <p:nvPr/>
        </p:nvPicPr>
        <p:blipFill>
          <a:blip r:embed="rId4"/>
          <a:stretch/>
        </p:blipFill>
        <p:spPr>
          <a:xfrm>
            <a:off x="7162920" y="380880"/>
            <a:ext cx="1562040" cy="1249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2895480"/>
            <a:ext cx="533412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55:02Z</dcterms:created>
  <dc:creator>jriehle</dc:creator>
  <dc:description/>
  <dc:language>en-US</dc:language>
  <cp:lastModifiedBy>Judith</cp:lastModifiedBy>
  <dcterms:modified xsi:type="dcterms:W3CDTF">2005-02-26T09:27:41Z</dcterms:modified>
  <cp:revision>4</cp:revision>
  <dc:subject/>
  <dc:title>Folie 1</dc:title>
</cp:coreProperties>
</file>