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F61-7F00-4C18-8E70-E1C2AA11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06E-0E44-47EE-AED6-EFE6AB35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E6D-8BD4-44FB-8CDB-49C4C66E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416-CA97-4B70-A7D7-B639AE24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70D-0CC1-44DF-A3FA-CB0DABFF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65A-8F78-4E4E-AB69-BF40EA7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062-639D-4A95-8FF1-A17E6264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94B-A2C7-4764-8B42-67E8B932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3F6-F628-4017-9BD9-003F89CA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26F-7120-45B5-AD99-D2DC01F5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5D4-46CE-44C7-9DC8-92283CBA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3F0-22AD-43C1-A635-6F16711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2537-F7FC-4AEF-A9BB-4760697ED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520" y="277920"/>
            <a:ext cx="73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Kennzeichnungspflichtig sind..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in der EU seit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209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990720"/>
            <a:ext cx="7467480" cy="25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.. alle Lebensmittel, Zutaten oder Zusatzstoffe, die aus gentechnisch veränderten Organismen (GVO) hergestellt sind, gleich ob die gentechnische Veränderung nachweisbar ist oder ni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Beispie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Öl aus gentechnisch veränderten Sojabohnen oder gentechnisch verändertem R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Stärke aus genetisch verändertem 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Traubenzucker und Glucosesirup aus gentechnisch veränderter Maisstär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Zusatzstoffe wie Lecithin aus gentechnisch veränderten Sojaboh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Aroma aus gentechnisch verändertem Sojaeiwei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Diese Produkte konnten Sie auch bisher schon im Supermarkt finden. Sie mussten 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bisher nur gekennzeichnet werden, wenn sie noch gentechnisch veränderte 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Bestandteile enthielten</a:t>
            </a:r>
            <a:r>
              <a:rPr b="0" lang="en-US" sz="1200" spc="-1" strike="noStrike">
                <a:solidFill>
                  <a:srgbClr val="3333ff"/>
                </a:solidFill>
                <a:latin typeface="Comic Sans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505320"/>
            <a:ext cx="7620120" cy="147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..alle Lebensmittel, die selbst ein gentechnisch veränderter Organismus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Beispi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Kartoffel, Maiskolben, T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Fisch (lebe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Solche Lebensmittel sind bislang in der EU noch </a:t>
            </a:r>
            <a:r>
              <a:rPr b="1" lang="en-US" sz="1200" spc="-1" strike="noStrike" u="sng">
                <a:solidFill>
                  <a:srgbClr val="3333ff"/>
                </a:solidFill>
                <a:uFillTx/>
                <a:latin typeface="Comic Sans MS"/>
              </a:rPr>
              <a:t>nicht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 zugelas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105520"/>
            <a:ext cx="7620120" cy="15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..alle Lebensmittel, die gentechnisch veränderte Organismen enthal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Beispi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Joghurt mit gentechnisch veränderten Bakte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Weizenbier mit gentechnisch veränderter He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Solche Lebensmittel sind bislang in der EU noch </a:t>
            </a:r>
            <a:r>
              <a:rPr b="1" lang="en-US" sz="1200" spc="-1" strike="noStrike" u="sng">
                <a:solidFill>
                  <a:srgbClr val="3333ff"/>
                </a:solidFill>
                <a:uFillTx/>
                <a:latin typeface="Comic Sans MS"/>
              </a:rPr>
              <a:t>nicht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 zugelas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4:11:02Z</dcterms:created>
  <dc:creator>Katrin</dc:creator>
  <dc:description/>
  <dc:language>en-US</dc:language>
  <cp:lastModifiedBy>Katrin</cp:lastModifiedBy>
  <dcterms:modified xsi:type="dcterms:W3CDTF">2004-11-24T13:30:40Z</dcterms:modified>
  <cp:revision>9</cp:revision>
  <dc:subject/>
  <dc:title>PowerPoint-Präsentation</dc:title>
</cp:coreProperties>
</file>