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81E-32E9-45D2-A06E-3743C302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A03-F607-4035-8AEF-DC9F2662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570-589C-4381-AEE9-47A637F5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5AD-48C6-4916-BEF4-DD5C4378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742-2A8A-4A70-A89F-D353D0D8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4C05-38DD-49A6-B46A-90DA853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5ADA-DCC2-4141-A2AE-7D5BBC4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4CBA-1484-46E9-A581-D4E9D4A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9CC-AABA-447E-BE75-9209DAD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74CF-CA59-4BB0-90CE-21754DDF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0EB1-BD10-4108-8126-E4044ED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1F-C19C-4EC6-8B83-441451C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7CFA-324E-4BBD-A41C-406392C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A20-1FA6-4067-B6ED-1C70100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5DA-AC4A-4AE7-AB87-7409A8F2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C23-72F4-4F2E-B141-5342BF56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B86-2132-4247-AE4F-01C08D0D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842-15FC-489E-8B62-5B65FFA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70B-D3A3-4D23-A8D6-B0FEDC46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A60-7D4F-4DBC-BA28-64685C5F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C9F-EDC8-4F00-9421-105155E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D75-2932-4A8D-8862-5A20629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73F-4FC6-4C18-BFB7-02925C8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7C2-BCEA-4951-99B5-CF1A661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1E2-EA18-40E5-90A3-0B1A36732A3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FA1E-67D3-49FF-835C-A38DEEBE011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ecff"/>
                </a:solidFill>
                <a:uFillTx/>
                <a:latin typeface="Arial"/>
              </a:rPr>
              <a:t>Möglichkeiten zum Erfassen personenbezogener Da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eisausschrei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unden-, Bonusk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uswe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reditk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Vor- und Nachte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onsum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ividuelle Werb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erletzung des Privatleb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öglicher Missbrauch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oduz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undenorientierte Werb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inschätzung des Lebens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Zukunftorientierte Marktwirtscha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onsumverhalten bekan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RF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dio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quenz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ntifik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krochip zur Identifikation, Verfolgung von War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urch Radiow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wendungsbereich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inkaufshäu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a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uswe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Schuf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chu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zgemeinschaft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ür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lgemeine Kreditunternehmen (1927 gegründ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rganisation von Kreditinstituti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rmittelt Angaben zur finanziellen Lage und Zahlungsmoral der Ku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erden an Vertragspartner übermittelt (ca. 50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Personenbezogene Da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gaben über persönl. oder finanzielle Verhältnisse einer Person ( Vorlieben, Hobbys, Konsumverhalten, finanz. Lage, etc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ecff"/>
                </a:solidFill>
                <a:uFillTx/>
                <a:latin typeface="Arial"/>
              </a:rPr>
              <a:t>Voraussetzung zum Erheben personenbezogener Da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Vertragspartner der Schufa (wie oben genannt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oraussetzung: Personen die ein mit kreditrisiko behaftetes Geschäft abschließe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dere Beispiele: Post (Telefonbu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Recht auf Selbstbestimm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m Grundgesetz ist festgeschrieben, dass jeder ein Recht auf informationelle Selbstbestimmung hat, d.h. das jeder über die Freigabe seiner persönl. Daten selbst entscheiden kan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ann eingeklagt werd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sp.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inweise auf Briefkästen ( keine Werbu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stimmen ob im Telefonbuch oder nic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q-21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wissen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sn.schule.de/~bechi/mcg/mcg09/db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Filmbeitrag des WDR (q-21) vom 05.06.04, 10:00 Uh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schufa.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6:53:19Z</dcterms:created>
  <dc:creator>Walker</dc:creator>
  <dc:description/>
  <dc:language>en-US</dc:language>
  <cp:lastModifiedBy>Walker</cp:lastModifiedBy>
  <dcterms:modified xsi:type="dcterms:W3CDTF">2004-06-13T14:36:53Z</dcterms:modified>
  <cp:revision>6</cp:revision>
  <dc:subject/>
  <dc:title>Möglichkeiten zum Erfassen personenbezogener Da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