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C80F7-8A08-420D-9992-3260C60F1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37726-2C40-45E6-AB07-9EA5B29D9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57C86-BFDC-4389-8DEB-56B8F22AC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67513-E584-404D-829A-37D780800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0E9BB-1F9E-4A2F-9979-3B8876F64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A7DCF-123F-4342-8D2E-B7C799AB6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8B468-B124-4FDD-BF7D-6406D92BF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6BDE6-5BCE-4F54-A2D8-A3E797A30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96558-25B8-4050-A0C1-D970D90CD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2D08A-3F2C-4BCB-93CA-25E214DC3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4DA77-F3DE-416F-8E21-72FAB3463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DFA20-49CC-4E06-8339-0F02F7174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9C9D8-5D3F-4565-8D67-549260208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224EF-3879-4F96-A685-9FA7C32F4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B142C-9D59-44BB-9016-EA433681C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978F2-BB1B-4610-9D0C-AEC50EF6A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6E3D8-9680-4AC6-9302-C0DF4E3E3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90811-5B8A-4723-A170-291A3F0DB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F0F48-0EE2-4D0D-B237-66DEF0F6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F5D65-1EF7-4AA5-9C7B-72BB91919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3682-4AA8-46C8-86C8-5D3895C6E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F1B5-A255-4E9F-BB2E-D9BE2F3DD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6549-45B9-414B-80E6-41EE2F214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B2D3-8A58-44DC-9C7B-4ABCE90B0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6BCD-A449-4AEF-AFC6-E9C2F39276AE}" type="slidenum">
              <a:rPr b="0" lang="de-DE"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55E8-EFF0-450D-913C-E3D58C195002}" type="slidenum">
              <a:rPr b="0" lang="de-DE"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447560"/>
            <a:ext cx="670572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9600" spc="-1" strike="noStrike">
                <a:solidFill>
                  <a:srgbClr val="ffcc66"/>
                </a:solidFill>
                <a:latin typeface="Times New Roman"/>
              </a:rPr>
              <a:t>         </a:t>
            </a:r>
            <a:r>
              <a:rPr b="1" i="1" lang="de-DE" sz="9600" spc="-1" strike="noStrike">
                <a:solidFill>
                  <a:srgbClr val="ffcc66"/>
                </a:solidFill>
                <a:latin typeface="Times New Roman"/>
              </a:rPr>
              <a:t>Datenschutz</a:t>
            </a:r>
            <a:endParaRPr b="0" lang="en-US" sz="9600" spc="-1" strike="noStrike">
              <a:solidFill>
                <a:srgbClr val="ffcc66"/>
              </a:solidFill>
              <a:latin typeface="Times New Roman"/>
            </a:endParaRPr>
          </a:p>
        </p:txBody>
      </p:sp>
      <p:sp>
        <p:nvSpPr>
          <p:cNvPr id="90" name=""/>
          <p:cNvSpPr/>
          <p:nvPr/>
        </p:nvSpPr>
        <p:spPr>
          <a:xfrm>
            <a:off x="1600200" y="624852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           </a:t>
            </a:r>
            <a:r>
              <a:rPr b="0" lang="de-DE" sz="2400" spc="-1" strike="noStrike">
                <a:solidFill>
                  <a:srgbClr val="eaeaea"/>
                </a:solidFill>
                <a:latin typeface="Times New Roman"/>
              </a:rPr>
              <a:t>Von Annegret Knothe und Bianca Petter</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Personenbezogene Daten – Was ist darunter zu verstehen?</a:t>
            </a:r>
            <a:br>
              <a:rPr sz="3600"/>
            </a:br>
            <a:endParaRPr b="0" lang="en-US" sz="3600" spc="-1" strike="noStrike">
              <a:solidFill>
                <a:srgbClr val="ffcc66"/>
              </a:solidFill>
              <a:latin typeface="Times New Roman"/>
            </a:endParaRPr>
          </a:p>
        </p:txBody>
      </p:sp>
      <p:sp>
        <p:nvSpPr>
          <p:cNvPr id="109" name="PlaceHolder 2"/>
          <p:cNvSpPr>
            <a:spLocks noGrp="1"/>
          </p:cNvSpPr>
          <p:nvPr>
            <p:ph/>
          </p:nvPr>
        </p:nvSpPr>
        <p:spPr>
          <a:xfrm>
            <a:off x="3352680" y="1523520"/>
            <a:ext cx="3810240" cy="449604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Adresse</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Telefonnumme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E-Mail Adresse</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Hobbi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Vorlieben für best. Produkte</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aeaea"/>
                </a:solidFill>
                <a:latin typeface="Times New Roman"/>
              </a:rPr>
              <a:t>Familie</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cc66"/>
                </a:solidFill>
                <a:latin typeface="Times New Roman"/>
                <a:ea typeface="Arial"/>
              </a:rPr>
              <a:t>Von wem und unter welchen Voraussetzungen dürfen personenbezogene Daten erhoben werden?</a:t>
            </a:r>
            <a:endParaRPr b="0" lang="en-US" sz="3200" spc="-1" strike="noStrike">
              <a:solidFill>
                <a:srgbClr val="ffcc66"/>
              </a:solidFill>
              <a:latin typeface="Times New Roman"/>
            </a:endParaRPr>
          </a:p>
        </p:txBody>
      </p:sp>
      <p:sp>
        <p:nvSpPr>
          <p:cNvPr id="111" name="PlaceHolder 2"/>
          <p:cNvSpPr>
            <a:spLocks noGrp="1"/>
          </p:cNvSpPr>
          <p:nvPr>
            <p:ph/>
          </p:nvPr>
        </p:nvSpPr>
        <p:spPr>
          <a:xfrm>
            <a:off x="1294920" y="1980720"/>
            <a:ext cx="7543800" cy="396252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Vom Staat ( z.B. Polizei) </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                     </a:t>
            </a:r>
            <a:r>
              <a:rPr b="0" lang="de-DE" sz="2000" spc="-1" strike="noStrike">
                <a:solidFill>
                  <a:srgbClr val="eaeaea"/>
                </a:solidFill>
                <a:latin typeface="Times New Roman"/>
              </a:rPr>
              <a:t>-zu Erfüllung von staatl. Aufgaben </a:t>
            </a:r>
            <a:endParaRPr b="0" lang="en-US" sz="2000" spc="-1" strike="noStrike">
              <a:solidFill>
                <a:srgbClr val="eaeaea"/>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28800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Geschäftspartner</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                     </a:t>
            </a:r>
            <a:r>
              <a:rPr b="0" lang="de-DE" sz="2000" spc="-1" strike="noStrike">
                <a:solidFill>
                  <a:srgbClr val="eaeaea"/>
                </a:solidFill>
                <a:latin typeface="Times New Roman"/>
              </a:rPr>
              <a:t>- eine Geschäftsbeziehung muss bestehen (z.B. Einkauf)</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28800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Jeder </a:t>
            </a:r>
            <a:endParaRPr b="0" lang="en-US" sz="2000" spc="-1" strike="noStrike">
              <a:solidFill>
                <a:srgbClr val="eaeaea"/>
              </a:solidFill>
              <a:latin typeface="Times New Roman"/>
            </a:endParaRPr>
          </a:p>
          <a:p>
            <a:pPr lvl="3"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 unter der Bedingung, dass er nur öffenl. Quellen nutzt und die gesetzl. Rahmenbedingungen beachtet (z.B. Umfragen)</a:t>
            </a: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304560"/>
            <a:ext cx="716256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Wie kann man sein Recht auf informationelle Selbstbestimmung durchsetzen?</a:t>
            </a:r>
            <a:r>
              <a:rPr b="0" lang="de-DE" sz="3600" spc="-1" strike="noStrike">
                <a:solidFill>
                  <a:srgbClr val="ffcc66"/>
                </a:solidFill>
                <a:latin typeface="Times New Roman"/>
                <a:ea typeface="Times New Roman"/>
              </a:rPr>
              <a:t> </a:t>
            </a:r>
            <a:endParaRPr b="0" lang="en-US" sz="3600" spc="-1" strike="noStrike">
              <a:solidFill>
                <a:srgbClr val="ffcc66"/>
              </a:solidFill>
              <a:latin typeface="Times New Roman"/>
            </a:endParaRPr>
          </a:p>
        </p:txBody>
      </p:sp>
      <p:sp>
        <p:nvSpPr>
          <p:cNvPr id="113" name="PlaceHolder 2"/>
          <p:cNvSpPr>
            <a:spLocks noGrp="1"/>
          </p:cNvSpPr>
          <p:nvPr>
            <p:ph/>
          </p:nvPr>
        </p:nvSpPr>
        <p:spPr>
          <a:xfrm>
            <a:off x="2590920" y="2514600"/>
            <a:ext cx="5790960" cy="2819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Rechtsweg</a:t>
            </a:r>
            <a:br>
              <a:rPr sz="2400"/>
            </a:br>
            <a:r>
              <a:rPr b="0" lang="de-DE"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Antrag auf Löschung der Daten</a:t>
            </a:r>
            <a:br>
              <a:rPr sz="2400"/>
            </a:br>
            <a:r>
              <a:rPr b="0" lang="de-DE"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Auskunftspflicht des Datensammlers</a:t>
            </a:r>
            <a:br>
              <a:rPr sz="2400"/>
            </a:br>
            <a:r>
              <a:rPr b="0" lang="de-DE"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Verweigerung der Herausgabe der Daten</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cc66"/>
                </a:solidFill>
                <a:latin typeface="Times New Roman"/>
              </a:rPr>
              <a:t>                    </a:t>
            </a:r>
            <a:r>
              <a:rPr b="0" lang="de-DE" sz="4400" spc="-1" strike="noStrike">
                <a:solidFill>
                  <a:srgbClr val="ffcc66"/>
                </a:solidFill>
                <a:latin typeface="Times New Roman"/>
              </a:rPr>
              <a:t>Quellen</a:t>
            </a:r>
            <a:endParaRPr b="0" lang="en-US" sz="4400" spc="-1" strike="noStrike">
              <a:solidFill>
                <a:srgbClr val="ffcc66"/>
              </a:solidFill>
              <a:latin typeface="Times New Roman"/>
            </a:endParaRPr>
          </a:p>
        </p:txBody>
      </p:sp>
      <p:sp>
        <p:nvSpPr>
          <p:cNvPr id="115" name="PlaceHolder 2"/>
          <p:cNvSpPr>
            <a:spLocks noGrp="1"/>
          </p:cNvSpPr>
          <p:nvPr>
            <p:ph/>
          </p:nvPr>
        </p:nvSpPr>
        <p:spPr>
          <a:xfrm>
            <a:off x="2285640" y="1676520"/>
            <a:ext cx="609588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Landesdatenschutzgesetz Baden-Würtemberg </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Bundesdatenschutzgesetz (HTML) </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Grundgesetz </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Microsoft Encarta 97</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http://www.barcode-fonts.de/wasistrfid.htm </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Filmbeitrag des WDR (q21) vom 05.06.04, 10:00 Uhr</a:t>
            </a:r>
            <a:br>
              <a:rPr sz="1800"/>
            </a:br>
            <a:r>
              <a:rPr b="0" lang="de-DE"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Times New Roman"/>
                <a:ea typeface="Arial"/>
              </a:rPr>
              <a:t>www.q-21.de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66"/>
                </a:solidFill>
                <a:latin typeface="Times New Roman"/>
              </a:rPr>
              <a:t>Inhalt:</a:t>
            </a:r>
            <a:endParaRPr b="0" lang="en-US" sz="4400" spc="-1" strike="noStrike">
              <a:solidFill>
                <a:srgbClr val="ffcc66"/>
              </a:solidFill>
              <a:latin typeface="Times New Roman"/>
            </a:endParaRPr>
          </a:p>
        </p:txBody>
      </p:sp>
      <p:sp>
        <p:nvSpPr>
          <p:cNvPr id="92" name="PlaceHolder 2"/>
          <p:cNvSpPr>
            <a:spLocks noGrp="1"/>
          </p:cNvSpPr>
          <p:nvPr>
            <p:ph/>
          </p:nvPr>
        </p:nvSpPr>
        <p:spPr>
          <a:xfrm>
            <a:off x="2437920" y="1600200"/>
            <a:ext cx="5867640" cy="4495680"/>
          </a:xfrm>
          <a:prstGeom prst="rect">
            <a:avLst/>
          </a:prstGeom>
          <a:noFill/>
          <a:ln w="0">
            <a:noFill/>
          </a:ln>
        </p:spPr>
        <p:txBody>
          <a:bodyPr lIns="90000" rIns="90000" tIns="46800" bIns="46800" anchor="t">
            <a:normAutofit fontScale="99000"/>
          </a:bodyPr>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Definition Datenschutz</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Möglichkeiten des Erfassens</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Vor- und Nachteile Erhebung personenbezogener Daten für den Konsumenten bzw. für den Produzenten</a:t>
            </a:r>
            <a:r>
              <a:rPr b="0" lang="de-DE" sz="2000" spc="-1" strike="noStrike">
                <a:solidFill>
                  <a:srgbClr val="eaeaea"/>
                </a:solidFill>
                <a:latin typeface="Times New Roman"/>
              </a:rPr>
              <a:t> </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RFID – Was ist das und wo wird es angewandt?</a:t>
            </a:r>
            <a:r>
              <a:rPr b="0" lang="de-DE" sz="2000" spc="-1" strike="noStrike">
                <a:solidFill>
                  <a:srgbClr val="eaeaea"/>
                </a:solidFill>
                <a:latin typeface="Times New Roman"/>
              </a:rPr>
              <a:t> </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Schufa – Was verbirgt sich dahinter?</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Personenbezogene Daten – Was ist darunter zu verstehen?</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Von wem und unter welchen Voraussetzungen dürfen personenbezogene Daten erhoben werden?</a:t>
            </a:r>
            <a:endParaRPr b="0" lang="en-US" sz="2000" spc="-1" strike="noStrike">
              <a:solidFill>
                <a:srgbClr val="eaeaea"/>
              </a:solidFill>
              <a:latin typeface="Times New Roman"/>
            </a:endParaRPr>
          </a:p>
          <a:p>
            <a:pPr marL="339480" indent="-339480">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ea typeface="Arial"/>
              </a:rPr>
              <a:t>Wie kann man sein Recht auf informationelle Selbstbestimmung durchsetzen?</a:t>
            </a:r>
            <a:r>
              <a:rPr b="0" lang="de-DE"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3" name=""/>
          <p:cNvSpPr/>
          <p:nvPr/>
        </p:nvSpPr>
        <p:spPr>
          <a:xfrm>
            <a:off x="2971800" y="304920"/>
            <a:ext cx="3733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94" name=""/>
          <p:cNvSpPr/>
          <p:nvPr/>
        </p:nvSpPr>
        <p:spPr>
          <a:xfrm>
            <a:off x="1523880" y="1371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
          <p:cNvSpPr/>
          <p:nvPr/>
        </p:nvSpPr>
        <p:spPr>
          <a:xfrm>
            <a:off x="2743200" y="990720"/>
            <a:ext cx="4800600" cy="423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eaeaea"/>
                </a:solidFill>
                <a:latin typeface="Times New Roman"/>
                <a:ea typeface="Arial"/>
              </a:rPr>
              <a:t>Datenschutz</a:t>
            </a:r>
            <a:r>
              <a:rPr b="0" lang="de-DE" sz="2400" spc="-1" strike="noStrike">
                <a:solidFill>
                  <a:srgbClr val="eaeaea"/>
                </a:solidFill>
                <a:latin typeface="Times New Roman"/>
                <a:ea typeface="Arial"/>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ea typeface="Arial"/>
              </a:rPr>
              <a:t>... alle Maßnahmen zur Sicherung gespeicherter personenbezogener Daten vor Missbrauch durch andere Personen bei der Erfassung, Verarbeitung und Wiedergabe und somit die Sicherstellung, dass kein Mensch dadurch in seinem Persönlichkeitsrecht eingeschränkt wird.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rPr>
              <a:t>Möglichkeiten des Erfassens</a:t>
            </a:r>
            <a:endParaRPr b="0" lang="en-US" sz="3600" spc="-1" strike="noStrike">
              <a:solidFill>
                <a:srgbClr val="ffcc66"/>
              </a:solidFill>
              <a:latin typeface="Times New Roman"/>
            </a:endParaRPr>
          </a:p>
        </p:txBody>
      </p:sp>
      <p:sp>
        <p:nvSpPr>
          <p:cNvPr id="97" name="PlaceHolder 2"/>
          <p:cNvSpPr>
            <a:spLocks noGrp="1"/>
          </p:cNvSpPr>
          <p:nvPr>
            <p:ph/>
          </p:nvPr>
        </p:nvSpPr>
        <p:spPr>
          <a:xfrm>
            <a:off x="2057040" y="1523880"/>
            <a:ext cx="6629400" cy="4572000"/>
          </a:xfrm>
          <a:prstGeom prst="rect">
            <a:avLst/>
          </a:prstGeom>
          <a:noFill/>
          <a:ln w="0">
            <a:noFill/>
          </a:ln>
        </p:spPr>
        <p:txBody>
          <a:bodyPr lIns="90000" rIns="90000" tIns="46800" bIns="46800" anchor="t">
            <a:normAutofit/>
          </a:bodyPr>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Internet </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Kreditkarte </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Preisausschreiben</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RFID</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Online-Shopping</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Computerviren/ Trojanische Pferde</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Telefonumfragen/ Interviews</a:t>
            </a: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aeaea"/>
                </a:solidFill>
                <a:latin typeface="Times New Roman"/>
              </a:rPr>
              <a:t>Öffentl. Verzeichnisse wie Telefonbuch, Branchenbuch und Handelsregister</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                </a:t>
            </a:r>
            <a:r>
              <a:rPr b="0" lang="de-DE" sz="3600" spc="-1" strike="noStrike">
                <a:solidFill>
                  <a:srgbClr val="ffcc66"/>
                </a:solidFill>
                <a:latin typeface="Times New Roman"/>
                <a:ea typeface="Arial"/>
              </a:rPr>
              <a:t>Vor- und Nachteile</a:t>
            </a:r>
            <a:endParaRPr b="0" lang="en-US" sz="3600" spc="-1" strike="noStrike">
              <a:solidFill>
                <a:srgbClr val="ffcc66"/>
              </a:solidFill>
              <a:latin typeface="Times New Roman"/>
            </a:endParaRPr>
          </a:p>
        </p:txBody>
      </p:sp>
      <p:sp>
        <p:nvSpPr>
          <p:cNvPr id="99" name="PlaceHolder 2"/>
          <p:cNvSpPr>
            <a:spLocks noGrp="1"/>
          </p:cNvSpPr>
          <p:nvPr>
            <p:ph/>
          </p:nvPr>
        </p:nvSpPr>
        <p:spPr>
          <a:xfrm>
            <a:off x="1218960" y="1600200"/>
            <a:ext cx="380988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Für Konsument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Produkte, die einem gefall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Mehr Komfort beim Kauf</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Keine „ Sinnlose“ Werbung</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Besserer Service und Produkte</a:t>
            </a:r>
            <a:endParaRPr b="0" lang="en-US" sz="2000" spc="-1" strike="noStrike">
              <a:solidFill>
                <a:srgbClr val="eaeaea"/>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Deutlich mehr Werbung</a:t>
            </a: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Man wird zum Kaufen verleitet</a:t>
            </a: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Verlust der Anonymität</a:t>
            </a:r>
            <a:endParaRPr b="0" lang="en-US" sz="2000" spc="-1" strike="noStrike">
              <a:solidFill>
                <a:srgbClr val="eaeaea"/>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00" name="PlaceHolder 3"/>
          <p:cNvSpPr>
            <a:spLocks noGrp="1"/>
          </p:cNvSpPr>
          <p:nvPr>
            <p:ph/>
          </p:nvPr>
        </p:nvSpPr>
        <p:spPr>
          <a:xfrm>
            <a:off x="5181480" y="1600200"/>
            <a:ext cx="381024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Times New Roman"/>
              </a:rPr>
              <a:t>Für Produzent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Chance weitere Kund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a:t>
            </a:r>
            <a:r>
              <a:rPr b="0" lang="de-DE" sz="2000" spc="-1" strike="noStrike">
                <a:solidFill>
                  <a:srgbClr val="00ff00"/>
                </a:solidFill>
                <a:latin typeface="Times New Roman"/>
              </a:rPr>
              <a:t>zu gewinnen</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Verbesserung der Produkte</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ff00"/>
                </a:solidFill>
                <a:latin typeface="Times New Roman"/>
              </a:rPr>
              <a:t>+   Verbesserte Werbung</a:t>
            </a:r>
            <a:endParaRPr b="0" lang="en-US" sz="2000" spc="-1" strike="noStrike">
              <a:solidFill>
                <a:srgbClr val="eaeaea"/>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Muss Datenschutz beachten</a:t>
            </a:r>
            <a:endParaRPr b="0" lang="en-US" sz="2000" spc="-1" strike="noStrike">
              <a:solidFill>
                <a:srgbClr val="eaeaea"/>
              </a:solidFill>
              <a:latin typeface="Times New Roman"/>
            </a:endParaRPr>
          </a:p>
          <a:p>
            <a:pPr marL="343080" indent="-343080">
              <a:spcBef>
                <a:spcPts val="499"/>
              </a:spcBef>
              <a:buClr>
                <a:srgbClr val="ffcc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Hoher Aufwand</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RFID – Was ist das und wo wird es angewandt?</a:t>
            </a:r>
            <a:endParaRPr b="0" lang="en-US" sz="3600" spc="-1" strike="noStrike">
              <a:solidFill>
                <a:srgbClr val="ffcc66"/>
              </a:solidFill>
              <a:latin typeface="Times New Roman"/>
            </a:endParaRPr>
          </a:p>
        </p:txBody>
      </p:sp>
      <p:sp>
        <p:nvSpPr>
          <p:cNvPr id="102" name=""/>
          <p:cNvSpPr/>
          <p:nvPr/>
        </p:nvSpPr>
        <p:spPr>
          <a:xfrm>
            <a:off x="1371600" y="23623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 name=""/>
          <p:cNvSpPr/>
          <p:nvPr/>
        </p:nvSpPr>
        <p:spPr>
          <a:xfrm>
            <a:off x="1219320" y="1832040"/>
            <a:ext cx="792468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RFID (Radio Frequency Identification) ermöglicht die berührungslose Datenerfassung und wird dank immer einfacherer und kostengünstiger werdender Technologien immer beliebter.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Ein RFID System besteht immer aus einem Datenträger (jeweils ein Chip und eine Antenne in einem Träger (RFID-Transponder oder Tag)) und einem Lesegerät (bestehend aus einer Antenne und einem Decoder).</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Zur Datenübertragung werden magnetische oder elektromagnetische Felder eingesetzt.</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Aktive Transponder / Passive Transponder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Aktiv: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Zur Überbrückung grosser Lesedistanzen (mehrere Meter) haben die RFID-Transponder eine Stromversorgung (Batterie). Wird z.B. für Zufahrtskontrollen auf Werksgeländen eingesetz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Passiv:</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e RFID-Transponder haben keine eigene Stromversorgung. Die Energie wird vom Lesegerät erzeugt (Leseabstände bis ca. 60cm).</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a:off x="1523880" y="228600"/>
            <a:ext cx="6400800" cy="509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eaeaea"/>
                </a:solidFill>
                <a:latin typeface="Arial"/>
                <a:ea typeface="Arial"/>
              </a:rPr>
              <a:t>Beispielanwendungen </a:t>
            </a:r>
            <a:endParaRPr b="0" lang="en-US" sz="36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Behälterkennzeichnung:</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Immer mehr Kommunen gehen zur verursachergerechten Kostenrechnung bei der Müllentsorgung über. RFID-Transponder auf der Mülltonne identifizieren den Besitzer. Waagen auf dem Müllwagen registrieren das Gewicht und RFID-Transponderleser ordnen das Gewicht dem Verursacher zu.</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 </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Zutrittskontroll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In der Öffentlichkeit sicherlich am bewusstesten wahrgenommen werden zahlreiche Anwendungen für die Zutrittskontrolle. Dabei können Anwender berührungslose identifiziert werden und es können dem Anwender zusätzliche Informationen wie z.B. Eintrittszeit mitgegeben werden.</a:t>
            </a:r>
            <a:endParaRPr b="0" lang="en-US" sz="16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Arial"/>
                <a:ea typeface="Arial"/>
              </a:rPr>
              <a:t> </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
          <p:cNvSpPr/>
          <p:nvPr/>
        </p:nvSpPr>
        <p:spPr>
          <a:xfrm>
            <a:off x="2133720" y="609480"/>
            <a:ext cx="5029200" cy="58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Diebstahlschutz:</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Nach den mit RFID-Transpondern erreichten Verbesserungen beim Diebstahl ganzer Fahrzeuge (Wegfahrsperre) wurde es immer mehr zur Mode gestohlene Fahrzeuge „auszuschlachten“ und die Ersatzteile zu verkaufen. Versteckt und nicht entfernbar in die Fahrzeugteile untergebrachte RFID-Transponder erleichtern die Identifikation und Rückverfolgbarkeit solcher Teile.</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 </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Optimierung von Supermärkten:</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Um lange Schlangen an den Kassen und zuwenig Einkaufswagen an den Eingängen zu verhindern setzen immer mehr Supermärkte RFID-Transponder ein. Die an den Trolleys befestigten RFID-Transponder ermöglichen es dem Management genau zu wissen wie viele Kunden sich zur Zeit im Laden befinden und eine entsprechende Anzahl Kassen zu öffnen und zusätzliche Trolleys bereitzustellen.</a:t>
            </a:r>
            <a:r>
              <a:rPr b="0" lang="de-DE" sz="1600" spc="-1" strike="noStrike">
                <a:solidFill>
                  <a:srgbClr val="eaeaea"/>
                </a:solidFill>
                <a:latin typeface="Times New Roman"/>
              </a:rPr>
              <a:t> </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66"/>
                </a:solidFill>
                <a:latin typeface="Times New Roman"/>
                <a:ea typeface="Arial"/>
              </a:rPr>
              <a:t>Schufa – Was verbirgt sich dahinter?</a:t>
            </a:r>
            <a:br>
              <a:rPr sz="3600"/>
            </a:br>
            <a:endParaRPr b="0" lang="en-US" sz="3600" spc="-1" strike="noStrike">
              <a:solidFill>
                <a:srgbClr val="ffcc66"/>
              </a:solidFill>
              <a:latin typeface="Times New Roman"/>
            </a:endParaRPr>
          </a:p>
        </p:txBody>
      </p:sp>
      <p:sp>
        <p:nvSpPr>
          <p:cNvPr id="107" name=""/>
          <p:cNvSpPr/>
          <p:nvPr/>
        </p:nvSpPr>
        <p:spPr>
          <a:xfrm>
            <a:off x="1523880" y="1828800"/>
            <a:ext cx="5791320" cy="435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Arial"/>
                <a:ea typeface="Arial"/>
              </a:rPr>
              <a:t>"Schufa" steht für "Schutzgemeinschaft für allgemeine Kreditsicherung" und</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ist ein Unternehmen mit der Aufgabe, seinen Vertragspartnern Informationen</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über die Kreditwürdigkeit von Kunden zu geben und sie so vor Verlusten zu</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schützen. Vertragspartner der Schufa sind in erster Linie Geldinstitute,</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Kreditkartengesellschaften, aber auch kreditgewährende Unternehmen wie z.B.</a:t>
            </a:r>
            <a:r>
              <a:rPr b="0" lang="de-DE" sz="1600" spc="-1" strike="noStrike">
                <a:solidFill>
                  <a:srgbClr val="eaeaea"/>
                </a:solidFill>
                <a:latin typeface="Times New Roman"/>
                <a:ea typeface="Times New Roman"/>
              </a:rPr>
              <a:t> </a:t>
            </a:r>
            <a:r>
              <a:rPr b="0" lang="de-DE" sz="1600" spc="-1" strike="noStrike">
                <a:solidFill>
                  <a:srgbClr val="eaeaea"/>
                </a:solidFill>
                <a:latin typeface="Arial"/>
                <a:ea typeface="Arial"/>
              </a:rPr>
              <a:t>Versandhandelsunternehmen und Kaufhäuser. Die Vertragspartner übermitteln der Schufa bestimmte Daten aus der</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Geschäftsbeziehung mit ihren Privatkunden, z.B. bei einem Kredit Daten über</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Betrag und Laufzeit des Kredits ("Positivmerkmale"). Soweit ein Vertrag</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nicht vertragsgemäß abgewickelt wird, werden diese Daten ebenfalls an die</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Schufa übermittelt ("Negativmerkmale"). Außerdem bezieht die Schufa</a:t>
            </a:r>
            <a:r>
              <a:rPr b="0" lang="de-DE" sz="1600" spc="-1" strike="noStrike">
                <a:solidFill>
                  <a:srgbClr val="eaeaea"/>
                </a:solidFill>
                <a:latin typeface="Arial"/>
                <a:ea typeface="Times New Roman"/>
              </a:rPr>
              <a:t> </a:t>
            </a:r>
            <a:r>
              <a:rPr b="0" lang="de-DE" sz="1600" spc="-1" strike="noStrike">
                <a:solidFill>
                  <a:srgbClr val="eaeaea"/>
                </a:solidFill>
                <a:latin typeface="Arial"/>
                <a:ea typeface="Arial"/>
              </a:rPr>
              <a:t>Informationen aus den bei den Amtsgerichten geführten</a:t>
            </a:r>
            <a:r>
              <a:rPr b="0" lang="de-DE" sz="1600" spc="-1" strike="noStrike">
                <a:solidFill>
                  <a:srgbClr val="eaeaea"/>
                </a:solidFill>
                <a:latin typeface="Arial"/>
                <a:ea typeface="Times New Roman"/>
              </a:rPr>
              <a:t> Schuldnerverzeichnissen. </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3T15:01:59Z</dcterms:created>
  <dc:creator>Tina Heinze</dc:creator>
  <dc:description/>
  <dc:language>en-US</dc:language>
  <cp:lastModifiedBy>Tina Heinze</cp:lastModifiedBy>
  <dcterms:modified xsi:type="dcterms:W3CDTF">2004-06-13T16:36:18Z</dcterms:modified>
  <cp:revision>9</cp:revision>
  <dc:subject/>
  <dc:title>         Datenschutz</dc:title>
</cp:coreProperties>
</file>