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3CC-7831-41C4-B1ED-6F9B70B3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88A-3D06-4BA7-94B1-4121CCDE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8BC-4BC8-41BC-A04D-1F69D3BA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C0B-272D-45F5-8585-88716693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B01-D53E-4289-970A-464EEC41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455-F2D0-4CD9-A2F4-F29D4F53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B22-005D-4A2E-8A3C-9E6EF22B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35A-04F6-4417-951D-B0C3007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1CC-A3D3-4DD0-9AC2-AFBD0F76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51B-F1CF-450D-88CD-2C8ED1B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BAA-5A14-406D-837E-CB7CA8D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C71-2514-4649-A7C5-D85A03F3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3643-4197-44F1-B58D-EEA41DB4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dr.de/tv/q21/619.0.p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öglichkeiten zur Erfassung personenbezogener D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sausschrei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(Provider, Webseitenbetreiber- Cook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denk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ndhä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landtag.sachsen.de/slt_online/de/infothek/index.asp?page=landesbeauftragte/datenschutzbeauftragter/index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nv-gz.de/gz_stadt/schule/dzr/Homepage/marcom/internet_datenschut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datenschutz.thueringen.de/tlfd/aufgabe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sn.schule.de/~heg/index.php?article=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dr.de/tv/q21/611.0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dr.de/tv/q21/612.0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dr.de/tv/q21/619.0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forium.de/do/displaySchufaInfo;jsessionid=0FF00427DE0FECD361C3373247B556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ww-kurs.de/cooki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Encarta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2.onwirtschaft.t-online.de/c/03/96/05/39605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/ Con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z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gezielte Wer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kundenfreund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nschaffung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essere Bera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beitslos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Kundenprofil (Überwach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genaue Auflistung aller Geldtransak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Frequenz Identif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htlose Chips mit Ant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fert Informationen über einzelnen Arti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 Futur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äter evtl. in Reisepä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ässe und Alufolie stö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oto: RFID-Chip auf dem Frischkäse; Rechte: WD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860640"/>
            <a:ext cx="29880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u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7 gegründete Schutzgemeinschaft für allgemeine Kreditsich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l: Schutz der Vertragspartner vor Kreditaus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7991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-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zielle Datenpakete, Webseitenbetreiber ermöglichen Benutzerprofile der Besucher zu erstel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stbesuch Webseite: Server ( besuchte Seite wird auf diesem angeboten) platziert Identifikationscode auf der Festplatte des Benutzerrech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terer Besuch: Webseitenbetreiber bzw. Betreiber des Servers kann dieses Datenpaket ab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Surfgewohnheiten des Benutzers können in Erfahrung gebracht werden  ( z.B .welche Webseiten/ welche Server wie of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möglicht schnelleres Internetsu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ersonenbezogene 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gaben über persönliche und sachliche Verhältnisse einer Person, z.B.: Geburtsdatum, Familienstand, Hobby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ürfen von Firmen erfragt werden, unter der Voraussetzung, dass sie nicht an dritte weitergegeben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enbezogene Daten werden vor Missbrauch durch andere Personen geschützt, welche gegen das Persönlichkeitsrecht verstoß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ährleistet die Freiheit des Einzel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wem und unter welchen Voraussetzungen dürfen personenbezogene Daten erhoben werde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stitute, Polizei, Krankenhaus und ähnl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ht gegen die Person verwende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formationelle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elbstbestimm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edem Einzelnen wird die Befugnis eingeräumt, selbst über Preisgabe, Einsatz bzw. Verwendung seiner persönlichen Daten zu bestim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ht auf Auskunft über die zu seiner Person gespeicherten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igung, Löschung und Sperrung der zu seiner Person gespeicherten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hadensersat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7:28:57Z</dcterms:created>
  <dc:creator>Konni</dc:creator>
  <dc:description/>
  <dc:language>en-US</dc:language>
  <cp:lastModifiedBy>Konni</cp:lastModifiedBy>
  <dcterms:modified xsi:type="dcterms:W3CDTF">2004-06-13T18:56:29Z</dcterms:modified>
  <cp:revision>17</cp:revision>
  <dc:subject/>
  <dc:title>Möglichkeiten zur Erfassung personenbezogener Daten</dc:title>
</cp:coreProperties>
</file>