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A49-6FF6-4D2B-9072-56C5AB95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37E-7C43-4BE1-9C40-09DCE72E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266-0A5D-4FFF-B7D7-D9053B5C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D6B-53FA-43C1-B16A-CB53940F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0EAC-8997-4EB1-B27D-C4B276D8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FDA7-C86F-4B1D-8C3C-2D4B9E0B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45EA-A146-4C4D-9C49-E9F1645F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D469-740A-4E40-B2F8-E29A4F20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EA4A-A10E-4993-9271-9797577F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9AFE-1074-418C-B132-BBB0A308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6DFF-5C09-40D4-8EDA-81AD2087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7E4-26D2-45D1-8608-3AD2B0C0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CD37-1ED2-4974-A96F-F86B9BFA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E8B3-7161-49D9-989C-EC256C5C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B27F-98EF-4417-A752-87243E38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D527-7907-4D5F-9325-460E9BBC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3298-67E8-472F-8DE2-EF24733D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AE2-6978-429B-BFCB-95AD3396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2A77-C918-46DA-8B9C-480E7A9C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365-A2EC-48C1-A216-47DF4297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648-FA7A-442E-AEE0-DE188BDE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DFF-61BD-44D9-9E10-F0E10BBE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CB9-2D1E-46FA-8B11-A5C4E322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548-FCFD-40AA-BB2A-CA345F2D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F74D-0907-4B1C-A7AA-36B77940B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6DD4-9D0B-4965-9278-59B7F9DBB3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atenschutz-berlin.de/recht/de/bdsg/bdsg1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7280"/>
            <a:ext cx="74674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Datenschutz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von Julia Schrapel, Elisabeth Neumann und Elisabeth Schuster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Quell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nterne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www.q-21.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www.google.de 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Suchbegriffe RFID  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                      und SCHUFA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www.datenschutz-berlin.de/recht/de/bdsg/bdsg1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www.worldnetdaily.com/ news/article.asp?ARTICL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elche Möglichkeiten des Erfassens personenbezogener Daten gibt es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et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suchte Seiten werden erfas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y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gabe persönlicher Da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winnspiel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agen nach Namen, Alter, Adresse, Hobbys, Konsumgewohnhei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editkarte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inblick in finanzielle L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rstellung eines Konsumentenprof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elche Vor-und Nachteile hat die Erhebung personenbezogener Daten für den Konsumenten bzw. für den Produzenten ?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0880" y="1752480"/>
          <a:ext cx="8382240" cy="484992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ür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rtei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chtei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sument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nden-spezifische Werbu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ird zum „gläsernen Kunden“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vatsphäre wird verletz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zent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zielte Werbung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weniger Investition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letzung des Datenschutzes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evtl. rechtliche Prob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öherer Absatz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höherer Umsatz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Tahoma"/>
              </a:rPr>
              <a:t>RFID</a:t>
            </a:r>
            <a:r>
              <a:rPr b="0" lang="de-DE" sz="36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3600"/>
            </a:br>
            <a:r>
              <a:rPr b="0" lang="de-DE" sz="3200" spc="-1" strike="noStrike">
                <a:solidFill>
                  <a:srgbClr val="ff0000"/>
                </a:solidFill>
                <a:latin typeface="Tahoma"/>
              </a:rPr>
              <a:t>(Radio Frequency Identification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Methode zum kontaktlosen Lesen und Speichern von Da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ursprünglich entwickelt zum Identifizieren von Objekten mit Strichco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aten werden auf „tags“ gespeiche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aten werden über elektromagnetische Wellen gele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ient als elektrisches „Preisschild“ in Supermärkten etc.  </a:t>
            </a: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Weiterentwicklung des Barco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rfid" descr=""/>
          <p:cNvPicPr/>
          <p:nvPr/>
        </p:nvPicPr>
        <p:blipFill>
          <a:blip r:embed="rId2"/>
          <a:stretch/>
        </p:blipFill>
        <p:spPr>
          <a:xfrm>
            <a:off x="6934320" y="3200400"/>
            <a:ext cx="1049040" cy="1035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Tahoma"/>
              </a:rPr>
              <a:t>RFID</a:t>
            </a:r>
            <a:r>
              <a:rPr b="0" lang="de-DE" sz="36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3600"/>
            </a:br>
            <a:r>
              <a:rPr b="0" lang="de-DE" sz="3200" spc="-1" strike="noStrike">
                <a:solidFill>
                  <a:srgbClr val="ff0000"/>
                </a:solidFill>
                <a:latin typeface="Tahoma"/>
              </a:rPr>
              <a:t>(Radio Frequency Identification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2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7010640" cy="4416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 flipV="1">
            <a:off x="2590920" y="5181480"/>
            <a:ext cx="1440" cy="6098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19720" y="4343040"/>
            <a:ext cx="144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5715000"/>
            <a:ext cx="14479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en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4952880"/>
            <a:ext cx="320040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ktromagnetische We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2590920"/>
            <a:ext cx="180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209680"/>
            <a:ext cx="144756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g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CHUFA Holding AG</a:t>
            </a:r>
            <a:br>
              <a:rPr sz="36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meinschaftseinrichtung der kreditgebenden deutschen Wirtscha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fgabe:  Schutz von Unternehmen vor Verlusten auf Grund zahlungsunfähiger Ku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UFA ist in Besitz von 317 Millionen Einzeldaten von 59 Millionen Perso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Was sind personenbezogene Daten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nzelangaben über persönliche oder sachliche Verhältnis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es was nicht als „öffentliche“ Daten deklariert 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ürfen nur mit schriftlicher Einwilligung verarbeitet, weitergegeben und veröffentlicht wer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Von wem und unter welchen Vorraussetzungen dürfen personenbezogene Daten erhoben werden?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hörden und staatliche Stelle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laubwürdige Begründu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nwilligung der betroffenen P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etzlich erlaub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Tahoma"/>
              </a:rPr>
              <a:t>Wie kann man sein Recht auf informatielle Selbstbestimmung durchsetzen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Datenschutzgesetz der BRD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Jeder Bürger hat das Rech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-&gt; auf Auskunft darüber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welche Daten gespeichert sind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Zweck der Speicherung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Herkunft der Date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-&gt; Berichtigung falscher Date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-&gt; Löschung unzulässig gespeicherter  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    Date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-&gt; Sperrung von Date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-&gt; Schadensersatz, falls Schaden    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    entstande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nen-Gymnasium</cp:lastModifiedBy>
  <dcterms:modified xsi:type="dcterms:W3CDTF">2004-06-14T09:07:46Z</dcterms:modified>
  <cp:revision>7</cp:revision>
  <dc:subject/>
  <dc:title>Datenschutz</dc:title>
</cp:coreProperties>
</file>